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90852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90852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0852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The Structure and Function of Macromolecules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6CFE-AA07-4901-B1DB-1943FC1A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2: Carbohydrates serve as fuel and building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oth sugars and their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A53D-ACA2-4FD8-90A0-326016EE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ug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imples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for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verted into other organic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mbined into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BD41-7504-443D-8F0D-30B41BD1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mono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82480" y="1511280"/>
            <a:ext cx="5832720" cy="4613400"/>
            <a:chOff x="1482480" y="1511280"/>
            <a:chExt cx="5832720" cy="4613400"/>
          </a:xfrm>
        </p:grpSpPr>
        <p:sp>
          <p:nvSpPr>
            <p:cNvPr id="255" name=""/>
            <p:cNvSpPr/>
            <p:nvPr/>
          </p:nvSpPr>
          <p:spPr>
            <a:xfrm>
              <a:off x="2590920" y="1511280"/>
              <a:ext cx="19285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iose suga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62360" y="1511280"/>
              <a:ext cx="19270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ntose suga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8200" y="1511280"/>
              <a:ext cx="19270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xose sugar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2590920" y="1952640"/>
              <a:ext cx="4724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155760" y="265572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89040" y="243540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9040" y="26607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4080" y="28875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94080" y="31240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0520" y="24303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27560" y="26607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16120" y="28875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22600" y="31240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2600" y="33526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21320" y="243540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8000" y="26607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29160" y="288756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19520" y="312120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19520" y="3352680"/>
              <a:ext cx="838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2240" y="24256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 C 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14440" y="431640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14440" y="477684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90840" y="52354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9040" y="49942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90840" y="477216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90840" y="43084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20520" y="4543560"/>
              <a:ext cx="51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   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34760" y="4549680"/>
              <a:ext cx="51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   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544500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228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67280" y="498636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76560" y="476568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    C   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2240" y="430524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   C   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87240" y="4533840"/>
              <a:ext cx="51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   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8000" y="54817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40160" y="5024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02360" y="5692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2760" y="409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18000" y="409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1200" y="409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30440" y="28861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54400" y="2028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1960" y="202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8400" y="202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65960" y="2021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18000" y="3365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4800" y="3592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45240" y="3611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17840" y="22003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35640" y="220968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70640" y="220968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67560" y="220968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9560" y="2060640"/>
              <a:ext cx="245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43440" y="203976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05200" y="2028960"/>
              <a:ext cx="249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16200" y="2039760"/>
              <a:ext cx="247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881360" y="2830320"/>
              <a:ext cx="2008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d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8680" y="3219480"/>
              <a:ext cx="1247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yceraldehy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3600" y="3540240"/>
              <a:ext cx="66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7560" y="3740040"/>
              <a:ext cx="74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55440" y="3757680"/>
              <a:ext cx="87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lact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79280" y="5210280"/>
              <a:ext cx="1408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hydroxyace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80040" y="5648400"/>
              <a:ext cx="77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u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1848600" y="4981680"/>
              <a:ext cx="194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t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9080" y="5823000"/>
              <a:ext cx="77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uct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82480" y="58035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E011-316E-49D7-9BF6-2F487588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orm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122120" y="2817720"/>
            <a:ext cx="7489080" cy="3355560"/>
            <a:chOff x="1122120" y="2817720"/>
            <a:chExt cx="7489080" cy="335556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1820880" y="3002040"/>
              <a:ext cx="65181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9920" y="2865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11720" y="339408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    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89320" y="373392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     C     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84720" y="407340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    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5520" y="4767120"/>
              <a:ext cx="105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     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98760" y="4414680"/>
              <a:ext cx="61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   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55680" y="2817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5280" y="3054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25280" y="5106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48600" y="300204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63000" y="321156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000" y="355284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9760" y="385920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53640" y="424656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61560" y="4597200"/>
              <a:ext cx="2491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ts val="22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69720" y="3584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68280" y="4209840"/>
              <a:ext cx="451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8160" y="388188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9800" y="3073680"/>
              <a:ext cx="730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72080" y="3095640"/>
              <a:ext cx="841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5280" y="3438360"/>
              <a:ext cx="35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28720" y="3795840"/>
              <a:ext cx="413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04600" y="4340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07840" y="4660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5240" y="46720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55760" y="40384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1800" y="4332240"/>
              <a:ext cx="36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77160" y="3911400"/>
              <a:ext cx="343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66960" y="36450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89280" y="4122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8640" y="35910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58880" y="42400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120" y="389772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20320" y="3448080"/>
              <a:ext cx="343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81080" y="4343400"/>
              <a:ext cx="36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73240" y="4660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960" y="3811680"/>
              <a:ext cx="413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0240" y="46720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25840" y="40384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72560" y="4343400"/>
              <a:ext cx="343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31760" y="3897360"/>
              <a:ext cx="36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28960" y="42987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4720" y="3578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98080" y="3299040"/>
              <a:ext cx="681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14640" y="38037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16440" y="4510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89440" y="3990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08560" y="4152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18000" y="3651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97320" y="45194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97560" y="41562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87840" y="36622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98520" y="3682440"/>
              <a:ext cx="24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560" y="4160520"/>
              <a:ext cx="54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3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69200" y="3941280"/>
              <a:ext cx="20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06280" y="5441400"/>
              <a:ext cx="6244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Linear and ring forms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Chemical equilibrium between the linear and 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es greatly favors the formation of rings. To form the glucose r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bon 1 bonds to the oxygen attached to carbon 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6320" y="44118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94800" y="4358880"/>
              <a:ext cx="249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43160" y="34574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27280" y="34448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21160" y="34495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9120" y="35780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99240" y="3507840"/>
              <a:ext cx="20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14400" y="3941280"/>
              <a:ext cx="24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2120" y="5460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056-F538-4480-8145-4CC76815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two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joined by a glycosidic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BD2E-4F9B-400B-9214-7829A320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disacchari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960" y="1438200"/>
            <a:ext cx="8987760" cy="4810680"/>
            <a:chOff x="75960" y="1438200"/>
            <a:chExt cx="8987760" cy="4810680"/>
          </a:xfrm>
        </p:grpSpPr>
        <p:grpSp>
          <p:nvGrpSpPr>
            <p:cNvPr id="398" name=""/>
            <p:cNvGrpSpPr/>
            <p:nvPr/>
          </p:nvGrpSpPr>
          <p:grpSpPr>
            <a:xfrm>
              <a:off x="75960" y="1438200"/>
              <a:ext cx="8987760" cy="4428720"/>
              <a:chOff x="75960" y="1438200"/>
              <a:chExt cx="8987760" cy="4428720"/>
            </a:xfrm>
          </p:grpSpPr>
          <p:pic>
            <p:nvPicPr>
              <p:cNvPr id="3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63720" y="1904760"/>
                <a:ext cx="6781320" cy="34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279000" y="1448280"/>
                <a:ext cx="148644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hydration reaction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 the synthesis of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ltose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he bonding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two glucose unit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orms maltose. Th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ycosidic link join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 number 1 carbon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 one glucose to th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umber 4 carbon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e second glucose.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oining the glucos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omers in a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fferent way would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sult in a different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accharide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1080" y="4403880"/>
                <a:ext cx="1675440" cy="146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hydration reaction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 the synthesis of 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crose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crose i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 disaccharide formed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glucose and fructose.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tice that fructose,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ough a hexose lik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ucose, forms a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ve-sided ring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960" y="1438200"/>
                <a:ext cx="340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8840" y="4410000"/>
                <a:ext cx="348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20080" y="1985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602720" y="2438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15280" y="27572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5640" y="2104920"/>
                <a:ext cx="4136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96160" y="2257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96520" y="27730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248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97840" y="199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82160" y="236196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06640" y="165420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12880" y="407160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00200" y="4466160"/>
                <a:ext cx="412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08080" y="484344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98360" y="409644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8960" y="434340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0280" y="4775760"/>
                <a:ext cx="412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84280" y="4010040"/>
                <a:ext cx="302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90640" y="4076640"/>
                <a:ext cx="293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74960" y="4356720"/>
                <a:ext cx="412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95480" y="3740040"/>
                <a:ext cx="6883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59760" y="1985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92000" y="23698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36240" y="27478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936240" y="2095560"/>
                <a:ext cx="4136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36200" y="22860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38000" y="27637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3188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37880" y="2000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03120" y="23526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27240" y="16444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63120" y="23716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94200" y="294948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96000" y="505620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59880" y="44672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52280" y="40622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99920" y="4479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39440" y="48574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33320" y="43718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958560" y="4381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45960" y="48574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50800" y="400032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44360" y="40860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10080" y="384660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29240" y="454032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57240" y="4543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68240" y="48686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34880" y="4867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26240" y="37306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44960" y="409932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36280" y="43621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36440" y="1971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19080" y="2452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84080" y="27828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22280" y="27619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42080" y="166356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41720" y="201348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17560" y="2295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17920" y="40287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8912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5200" y="1971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74880" y="27748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81040" y="27619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00840" y="166356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00840" y="2013480"/>
                <a:ext cx="412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76320" y="22953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8240" y="192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87480" y="48592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06600" y="48686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5000" y="382572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19920" y="4373280"/>
                <a:ext cx="412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89200" y="43750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97400" y="39970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81880" y="45496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92400" y="4105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74760" y="199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70080" y="246996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68520" y="45338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59160" y="249552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96640" y="425772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76120" y="425124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577920" y="21621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457400" y="21556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40280" y="2003400"/>
                <a:ext cx="733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–</a:t>
                </a: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ycosidic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nk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49640" y="4047840"/>
                <a:ext cx="733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–2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lycosidic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nk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87560" y="5317920"/>
                <a:ext cx="68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97280" y="3200400"/>
                <a:ext cx="68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59280" y="3181320"/>
                <a:ext cx="685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63240" y="5327640"/>
                <a:ext cx="7200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ruct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01920" y="3184560"/>
                <a:ext cx="655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lt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78160" y="5324400"/>
                <a:ext cx="683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cr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29960" y="24271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2120" y="40669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03040" y="1985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00960" y="59432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224-8855-485B-BEDA-DD311CFD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lysacchar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lymers of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many roles in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8513-15B6-49A6-8082-3A7DE526F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Storage Polysacchar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olymer consisting entirely of glucose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B2D0-DC1D-4053-A99B-ED9D577D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ajor storage form of glucose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404800" y="1523520"/>
            <a:ext cx="4379760" cy="4877640"/>
            <a:chOff x="2404800" y="1523520"/>
            <a:chExt cx="4379760" cy="4877640"/>
          </a:xfrm>
        </p:grpSpPr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3057480" y="1890720"/>
              <a:ext cx="342252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3632040" y="1523520"/>
              <a:ext cx="114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01480" y="1536480"/>
              <a:ext cx="70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02200" y="1828800"/>
              <a:ext cx="0" cy="10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330800" y="1817640"/>
              <a:ext cx="984240" cy="152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11720" y="1803240"/>
              <a:ext cx="109440" cy="85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73400" y="5373360"/>
              <a:ext cx="92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y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31040" y="539244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ylopect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1400" y="4003560"/>
              <a:ext cx="528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64120" y="6092640"/>
              <a:ext cx="303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Starch: a plant polysacchar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4800" y="60955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6B2-C22B-49F7-9085-20CDAB6D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glucose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ajor storage form of glucose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354040" y="2629800"/>
            <a:ext cx="4411440" cy="3831840"/>
            <a:chOff x="2354040" y="2629800"/>
            <a:chExt cx="4411440" cy="38318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3459240" y="3189240"/>
              <a:ext cx="259380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3944520" y="2650680"/>
              <a:ext cx="120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0440" y="2629800"/>
              <a:ext cx="1535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ycogen gran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78520" y="4370400"/>
              <a:ext cx="1265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103640" y="2960640"/>
              <a:ext cx="533520" cy="9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578120" y="2948040"/>
              <a:ext cx="68040" cy="82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12280" y="6156000"/>
              <a:ext cx="355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Glycogen: an animal polysacchar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05880" y="5609880"/>
              <a:ext cx="99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yco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040" y="615600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130720" y="3124080"/>
              <a:ext cx="247680" cy="74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263920" y="3114720"/>
              <a:ext cx="106200" cy="67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9232-4101-4142-BFAC-63C74F5E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The Molecules of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level in the hierarchy of biological organization is reached when small organic molecules are join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6872-65D9-44D9-9180-84181957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Structural Polysacchar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olymer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9A2-A3DB-4EA6-A59C-809DFA584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ifferent glycosidic linkages than st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558440" y="1249200"/>
            <a:ext cx="5934240" cy="5266440"/>
            <a:chOff x="1558440" y="1249200"/>
            <a:chExt cx="5934240" cy="5266440"/>
          </a:xfrm>
        </p:grpSpPr>
        <p:grpSp>
          <p:nvGrpSpPr>
            <p:cNvPr id="541" name=""/>
            <p:cNvGrpSpPr/>
            <p:nvPr/>
          </p:nvGrpSpPr>
          <p:grpSpPr>
            <a:xfrm>
              <a:off x="3120840" y="1249200"/>
              <a:ext cx="4371840" cy="5189400"/>
              <a:chOff x="3120840" y="1249200"/>
              <a:chExt cx="4371840" cy="5189400"/>
            </a:xfrm>
          </p:grpSpPr>
          <p:pic>
            <p:nvPicPr>
              <p:cNvPr id="5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16960" y="1268280"/>
                <a:ext cx="4184280" cy="51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3139560" y="6162840"/>
                <a:ext cx="3554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(c) Cellulose: 1– 4 linkage of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glucose monom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96360" y="124920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315760" y="126684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23920" y="17373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520800" y="142668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63200" y="18705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509280" y="201276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80720" y="20347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40640" y="1770120"/>
                <a:ext cx="397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67640" y="21920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37240" y="244296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44120" y="245088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97520" y="17730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50000" y="21934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60440" y="1990440"/>
                <a:ext cx="397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94000" y="14364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82120" y="17064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92560" y="19713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9680" y="22363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86440" y="25012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83920" y="276624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25440" y="170928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28320" y="22363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25440" y="27842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83680" y="19594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02880" y="169740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48160" y="19713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95320" y="224352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93880" y="251892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91000" y="27842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28320" y="25207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604200" y="171972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278760" y="1418760"/>
                <a:ext cx="6022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228360" y="18676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53440" y="20397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13360" y="219204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41440" y="17611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94840" y="244080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24040" y="243324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62320" y="17035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922720" y="21625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18400" y="199944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65080" y="20379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37360" y="3530520"/>
                <a:ext cx="6008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33640" y="380844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20800" y="40809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25000" y="450720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130920" y="41680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08040" y="4019760"/>
                <a:ext cx="399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003920" y="402768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67000" y="41385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16560" y="349884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13920" y="3805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512240" y="40615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04560" y="44967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44760" y="41043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97200" y="3515400"/>
                <a:ext cx="6022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94560" y="38199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97200" y="407916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5200" y="449676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81080" y="3508560"/>
                <a:ext cx="6022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79520" y="3814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81080" y="407304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70520" y="449208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32960" y="409248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20440" y="4129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525120" y="497556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822480" y="52545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509280" y="552708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13480" y="59533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0840" y="56131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06240" y="5567040"/>
                <a:ext cx="397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168440" y="54306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08240" y="558000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17880" y="5069520"/>
                <a:ext cx="3985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3920" y="571824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04680" y="546192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92880" y="5525280"/>
                <a:ext cx="3970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156640" y="55731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91440" y="4983480"/>
                <a:ext cx="6008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88440" y="525924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99960" y="5957640"/>
                <a:ext cx="39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39080" y="543996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77840" y="54619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77000" y="5713200"/>
                <a:ext cx="294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88160" y="506376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93800" y="5638320"/>
                <a:ext cx="398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2680" y="3258360"/>
                <a:ext cx="2487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(a)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glucose ring structur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73400" y="4771440"/>
                <a:ext cx="33476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(b) Starch: 1– 4 linkage of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glucose monom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841440" y="199944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60240" y="2751480"/>
                <a:ext cx="851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01520" y="2768400"/>
                <a:ext cx="839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525560" y="5850360"/>
                <a:ext cx="6008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85400" y="5850360"/>
                <a:ext cx="601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1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978800" y="4006800"/>
                <a:ext cx="4003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06320" y="4014000"/>
                <a:ext cx="398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73640" y="4019760"/>
                <a:ext cx="3970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74560" y="4030200"/>
                <a:ext cx="398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9080" y="4019760"/>
                <a:ext cx="398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1558440" y="6210000"/>
              <a:ext cx="14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7 A–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F1B-F99D-468D-B826-2288BFA1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74240" y="1525680"/>
            <a:ext cx="8969400" cy="5043600"/>
            <a:chOff x="174240" y="1525680"/>
            <a:chExt cx="8969400" cy="5043600"/>
          </a:xfrm>
        </p:grpSpPr>
        <p:grpSp>
          <p:nvGrpSpPr>
            <p:cNvPr id="646" name=""/>
            <p:cNvGrpSpPr/>
            <p:nvPr/>
          </p:nvGrpSpPr>
          <p:grpSpPr>
            <a:xfrm>
              <a:off x="987840" y="1525680"/>
              <a:ext cx="8155800" cy="5043600"/>
              <a:chOff x="987840" y="1525680"/>
              <a:chExt cx="8155800" cy="50436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987840" y="1525680"/>
                <a:ext cx="7950600" cy="5043600"/>
                <a:chOff x="987840" y="1525680"/>
                <a:chExt cx="7950600" cy="50436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987840" y="1525680"/>
                  <a:ext cx="7950600" cy="5043600"/>
                  <a:chOff x="987840" y="1525680"/>
                  <a:chExt cx="7950600" cy="5043600"/>
                </a:xfrm>
              </p:grpSpPr>
              <p:pic>
                <p:nvPicPr>
                  <p:cNvPr id="6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92880" y="1525680"/>
                    <a:ext cx="6047640" cy="49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3123000" y="3978360"/>
                    <a:ext cx="7596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lant cel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766760" y="3480120"/>
                    <a:ext cx="5734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.5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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314160" y="2366640"/>
                    <a:ext cx="716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 wal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3590280" y="2543760"/>
                    <a:ext cx="32400" cy="285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622680" y="2543760"/>
                    <a:ext cx="193680" cy="2545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188960" y="2110320"/>
                    <a:ext cx="1683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ulose microfibrils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a plant cell wa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8552600">
                    <a:off x="5911560" y="2391840"/>
                    <a:ext cx="42732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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857560" y="2252520"/>
                    <a:ext cx="7246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crofibr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6130800" y="2458800"/>
                    <a:ext cx="32400" cy="169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968640" y="537804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531960" y="442116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587400" y="46123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3738240" y="4765320"/>
                    <a:ext cx="3258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423600" y="46857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885120" y="45554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039200" y="462888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80320" y="46872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986280" y="47934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347000" y="4699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813920" y="45511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186800" y="44269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47600" y="45511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448520" y="443124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104800" y="44269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514400" y="46245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978800" y="462744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100120" y="47005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259600" y="52675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512520" y="499572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891960" y="5153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423600" y="52797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738240" y="5348520"/>
                    <a:ext cx="3258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504600" y="55764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430080" y="58212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894840" y="57243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738240" y="5919840"/>
                    <a:ext cx="3258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340880" y="58417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347000" y="52761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973400" y="480348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52640" y="48117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432320" y="499572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194360" y="500400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816800" y="5144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608640" y="51973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064040" y="521928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22320" y="519840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981680" y="521604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253840" y="47005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599640" y="57751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060080" y="57729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981240" y="595368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448520" y="55728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514400" y="575100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647600" y="56811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637160" y="596196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900680" y="596844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804560" y="5707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266800" y="5838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652640" y="539208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900680" y="5383800"/>
                    <a:ext cx="516960" cy="23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0" lang="en-US" sz="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104800" y="558432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327200" y="6187320"/>
                    <a:ext cx="75924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buClr>
                        <a:srgbClr val="000000"/>
                      </a:buClr>
                      <a:buFont typeface="Symbol" charset="2"/>
                      <a:buChar char="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lucose monomer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816320" y="4132080"/>
                    <a:ext cx="424080" cy="6987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724160" y="4268160"/>
                    <a:ext cx="516240" cy="550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3724920" y="45424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650840" y="5113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722040" y="56973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731400" y="5113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5093640" y="52984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177440" y="58665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987840" y="5255640"/>
                    <a:ext cx="195120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arallel cellulose molecules a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ld together by hydroge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onds between hydroxy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ups attached to carb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toms 3 and 6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852640" y="5346720"/>
                    <a:ext cx="0" cy="703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2852640" y="5534280"/>
                    <a:ext cx="9590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435080" y="1924200"/>
                    <a:ext cx="150336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bout 80 cellulos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olecules associa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o form a microfibril,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ain architectural uni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of the plant cell wal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502760" y="2009160"/>
                    <a:ext cx="0" cy="676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>
                    <a:off x="6469200" y="2415960"/>
                    <a:ext cx="1033560" cy="304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899760" y="5850720"/>
                    <a:ext cx="133416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cellulose molecu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s an unbranched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lucose polymer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966000" y="5900760"/>
                    <a:ext cx="0" cy="45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74000" y="5815440"/>
                    <a:ext cx="785520" cy="374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101920" y="5014440"/>
                    <a:ext cx="3373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H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0" name=""/>
                <p:cNvSpPr/>
                <p:nvPr/>
              </p:nvSpPr>
              <p:spPr>
                <a:xfrm>
                  <a:off x="4183560" y="559008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77440" y="531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117400" y="5873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980240" y="580392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7407000" y="4809960"/>
                <a:ext cx="17366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ul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4240" y="6108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ajor component of the tough walls that enclose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2E05-29B1-4435-B820-A98DD468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ose is difficult to dig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ws have microbes in their stomachs to facilitate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02840" y="2652840"/>
            <a:ext cx="8283960" cy="3761280"/>
            <a:chOff x="402840" y="2652840"/>
            <a:chExt cx="8283960" cy="3761280"/>
          </a:xfrm>
        </p:grpSpPr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1828800" y="2652840"/>
              <a:ext cx="685800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402840" y="6108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A4D9-EBCE-4271-8032-D4BD3236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tin, another important structural polysacchar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 the exoskeleton of arthrop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as surgical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61280" y="3170160"/>
            <a:ext cx="8601480" cy="3258360"/>
            <a:chOff x="161280" y="3170160"/>
            <a:chExt cx="8601480" cy="3258360"/>
          </a:xfrm>
        </p:grpSpPr>
        <p:grpSp>
          <p:nvGrpSpPr>
            <p:cNvPr id="747" name=""/>
            <p:cNvGrpSpPr/>
            <p:nvPr/>
          </p:nvGrpSpPr>
          <p:grpSpPr>
            <a:xfrm>
              <a:off x="864720" y="3170160"/>
              <a:ext cx="7898040" cy="3258360"/>
              <a:chOff x="864720" y="3170160"/>
              <a:chExt cx="7898040" cy="325836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869400" y="3170160"/>
                <a:ext cx="7893360" cy="3258360"/>
                <a:chOff x="869400" y="3170160"/>
                <a:chExt cx="7893360" cy="32583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869400" y="5342400"/>
                  <a:ext cx="20044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The structure of th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tin monomer.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19600" y="3170160"/>
                  <a:ext cx="7643160" cy="202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"/>
                <p:cNvSpPr/>
                <p:nvPr/>
              </p:nvSpPr>
              <p:spPr>
                <a:xfrm>
                  <a:off x="1559520" y="35686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49920" y="3287160"/>
                  <a:ext cx="627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229040" y="3831840"/>
                  <a:ext cx="413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230480" y="37062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984600" y="3620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802520" y="3615480"/>
                  <a:ext cx="413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806840" y="3950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599120" y="4187880"/>
                  <a:ext cx="404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564920" y="442116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582920" y="4656960"/>
                  <a:ext cx="41976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843920" y="44190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564920" y="3853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29040" y="41828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788560" y="5270400"/>
                  <a:ext cx="2918880" cy="115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b)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tin forms the exoskeleton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f arthropods. This cicad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 molting, shedding its old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xoskeleton and emerg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 adult form.                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01520" y="5295960"/>
                  <a:ext cx="3063960" cy="94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c)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tin is used to make a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trong and flexible surgic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read that decomposes af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e wound or incision heals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"/>
              <p:cNvSpPr/>
              <p:nvPr/>
            </p:nvSpPr>
            <p:spPr>
              <a:xfrm>
                <a:off x="864720" y="394632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161280" y="6121080"/>
              <a:ext cx="1532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0 A–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423-5135-4399-983A-A71E3188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3: Lipids are a diverse group of hydrophobic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one class of large biological molecules that do not consist of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the common trait of being hydroph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F3B-E269-4DEC-A306-7AE8FFA2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a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nstructed from two types of smaller molecules, a single glycerol and usually three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51360" y="6278400"/>
            <a:ext cx="253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Fat molecule (triacylglyce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106800" y="2792520"/>
            <a:ext cx="4635360" cy="351144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371400" y="2778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6680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4880" y="2752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924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0992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82600" y="2827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22680" y="2760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30400" y="2820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4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5268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65440" y="27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47676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844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97240" y="2822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1085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2600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90600" y="2792520"/>
            <a:ext cx="26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015000" y="2905200"/>
            <a:ext cx="4762800" cy="3414600"/>
            <a:chOff x="3015000" y="2905200"/>
            <a:chExt cx="4762800" cy="3414600"/>
          </a:xfrm>
        </p:grpSpPr>
        <p:sp>
          <p:nvSpPr>
            <p:cNvPr id="794" name=""/>
            <p:cNvSpPr/>
            <p:nvPr/>
          </p:nvSpPr>
          <p:spPr>
            <a:xfrm>
              <a:off x="3160440" y="2930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60040" y="2930400"/>
              <a:ext cx="366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63480" y="2932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3480" y="3216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63480" y="3492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60440" y="3213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60440" y="3487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80920" y="3497400"/>
              <a:ext cx="337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84160" y="3216240"/>
              <a:ext cx="337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366720" y="3654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6068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488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84400" y="314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0040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213160" y="3143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19440" y="307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0400" y="3143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4316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592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70120" y="307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74960" y="3143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92400" y="307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0048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17920" y="3073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26000" y="3141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19680" y="291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18080" y="29671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0856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6280" y="29066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0280" y="29718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220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4656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7040" y="29098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0400" y="2968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1764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0344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48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7792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66960" y="2905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57440" y="2973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47920" y="29210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95800" y="29718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76280" y="3803760"/>
              <a:ext cx="79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yce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62120" y="3270240"/>
              <a:ext cx="1125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tty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almitic aci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163400">
              <a:off x="3709800" y="4257000"/>
              <a:ext cx="127080" cy="44136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39720" y="4510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23720" y="4657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26960" y="5197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0200" y="5751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39720" y="5924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87360" y="5983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0336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1288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2564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83660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4792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5744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73440" y="5919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8440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93920" y="5924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06680" y="5983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18000" y="59166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32200" y="5989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41720" y="5924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3040" y="59832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52840" y="5748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4332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37040" y="5610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2572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1800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8760" y="5653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93920" y="5613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7828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66960" y="5613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56000" y="56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4792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30480" y="56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2096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16120" y="56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01920" y="5605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87360" y="5662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87360" y="54230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87360" y="5113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0336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0964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5640" y="5054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35160" y="5113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47920" y="5054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5600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7344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67972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9392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9876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1800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2752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37040" y="5048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51240" y="5108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4920" y="5202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5448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3848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3076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1620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0524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9572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8440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7344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62120" y="5425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4792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5160" y="54309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2564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09640" y="54309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03360" y="53737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95280" y="457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01920" y="4519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09640" y="45626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25640" y="451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83660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49360" y="4516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6212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3440" y="4519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81160" y="4575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89240" y="451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05240" y="4575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16200" y="451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2752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737040" y="4518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51240" y="4568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9320" y="4656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5448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4172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3076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2124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8480" y="4888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9716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89080" y="4888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7668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392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4648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35160" y="4888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25640" y="4842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6120" y="4892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03360" y="48355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90600" y="48960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81160" y="3025800"/>
              <a:ext cx="337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73160" y="449892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49240" y="46576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47800" y="519120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47800" y="575136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38280" y="5751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38280" y="5197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33828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1720" y="4670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81240" y="4716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0192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496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1916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31920" y="4714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4144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4952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6840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75040" y="4714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8456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9876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1800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27520" y="471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37040" y="4664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49800" y="4714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94800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5448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3704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2752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16200" y="5775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9876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9572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679720" y="58150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696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249520" y="5803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41440" y="5751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35160" y="5811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25640" y="5759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40820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98680" y="57564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82680" y="5807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71720" y="5759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74600" y="5210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984120" y="5251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192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06400" y="52531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2096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831920" y="5251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4144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4952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66960" y="520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67648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0680" y="5202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0056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16200" y="51926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525720" y="5254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37040" y="5197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73160" y="504036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73160" y="559764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15000" y="3987720"/>
              <a:ext cx="368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Dehydration reaction in the synthesis of a f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41440" y="4192560"/>
              <a:ext cx="106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ter link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0200" y="6194520"/>
              <a:ext cx="331560" cy="1252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1398240" y="626256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5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DBE7-8210-4C79-833C-7A8C089BA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in the length and number and locations of double bonds they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4DD7-F40A-434D-B02B-448F503E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ted fatty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maximum number of hydrogen atom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doub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382480" y="3340080"/>
            <a:ext cx="5618520" cy="3006720"/>
            <a:chOff x="2382480" y="3340080"/>
            <a:chExt cx="5618520" cy="3006720"/>
          </a:xfrm>
        </p:grpSpPr>
        <p:pic>
          <p:nvPicPr>
            <p:cNvPr id="1006" name="" descr=""/>
            <p:cNvPicPr/>
            <p:nvPr/>
          </p:nvPicPr>
          <p:blipFill>
            <a:blip r:embed="rId1"/>
            <a:stretch/>
          </p:blipFill>
          <p:spPr>
            <a:xfrm>
              <a:off x="2413080" y="3340080"/>
              <a:ext cx="5587920" cy="30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3377520" y="5970600"/>
              <a:ext cx="24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 Saturated fat and fatty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02680" y="4894200"/>
              <a:ext cx="983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earic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82480" y="59688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28D-C2A4-4843-96E4-9C0ACFD2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saturated fatty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one or more doub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836360" y="2362320"/>
            <a:ext cx="6090840" cy="3569040"/>
            <a:chOff x="1836360" y="2362320"/>
            <a:chExt cx="6090840" cy="3569040"/>
          </a:xfrm>
        </p:grpSpPr>
        <p:grpSp>
          <p:nvGrpSpPr>
            <p:cNvPr id="1013" name=""/>
            <p:cNvGrpSpPr/>
            <p:nvPr/>
          </p:nvGrpSpPr>
          <p:grpSpPr>
            <a:xfrm>
              <a:off x="2819520" y="2362320"/>
              <a:ext cx="5107680" cy="3569040"/>
              <a:chOff x="2819520" y="2362320"/>
              <a:chExt cx="5107680" cy="3569040"/>
            </a:xfrm>
          </p:grpSpPr>
          <p:pic>
            <p:nvPicPr>
              <p:cNvPr id="10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2362320"/>
                <a:ext cx="5054400" cy="31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"/>
              <p:cNvSpPr/>
              <p:nvPr/>
            </p:nvSpPr>
            <p:spPr>
              <a:xfrm>
                <a:off x="3075120" y="5623200"/>
                <a:ext cx="2609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 Unsaturated fat and fatty 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026760" y="5473800"/>
                <a:ext cx="12578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double b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uses be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071480" y="4069080"/>
                <a:ext cx="855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leic 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29400" y="48261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1836360" y="56131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3FC-8934-4894-B16E-8B12DC84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arge molecules composed of small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lex in their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68000" y="3162240"/>
            <a:ext cx="5964840" cy="3251880"/>
            <a:chOff x="1368000" y="3162240"/>
            <a:chExt cx="5964840" cy="3251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455920" y="3162240"/>
              <a:ext cx="487692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68000" y="61084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AFD-F152-443E-AC1A-E710A2A3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hospholip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only two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hosphate group instead of a thir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D944-4E55-44A6-9D7B-8FF5BC49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spholipi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a hydrophilic “head” and hydrophobic “tai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24360" y="2247840"/>
            <a:ext cx="8820360" cy="4318560"/>
            <a:chOff x="324360" y="2247840"/>
            <a:chExt cx="8820360" cy="4318560"/>
          </a:xfrm>
        </p:grpSpPr>
        <p:grpSp>
          <p:nvGrpSpPr>
            <p:cNvPr id="1027" name=""/>
            <p:cNvGrpSpPr/>
            <p:nvPr/>
          </p:nvGrpSpPr>
          <p:grpSpPr>
            <a:xfrm>
              <a:off x="324360" y="2247840"/>
              <a:ext cx="8820360" cy="4318560"/>
              <a:chOff x="324360" y="2247840"/>
              <a:chExt cx="8820360" cy="4318560"/>
            </a:xfrm>
          </p:grpSpPr>
          <p:pic>
            <p:nvPicPr>
              <p:cNvPr id="10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7360" y="2351160"/>
                <a:ext cx="6346800" cy="389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9" name=""/>
              <p:cNvGrpSpPr/>
              <p:nvPr/>
            </p:nvGrpSpPr>
            <p:grpSpPr>
              <a:xfrm>
                <a:off x="324360" y="2247840"/>
                <a:ext cx="8820360" cy="4318560"/>
                <a:chOff x="324360" y="2247840"/>
                <a:chExt cx="8820360" cy="431856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3014640" y="2561400"/>
                  <a:ext cx="4669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973240" y="2793960"/>
                  <a:ext cx="35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979720" y="298296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727360" y="298620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219480" y="298764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979720" y="318456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995560" y="3386880"/>
                  <a:ext cx="4669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644920" y="3389400"/>
                  <a:ext cx="3981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230560" y="3372480"/>
                  <a:ext cx="431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614680" y="3594240"/>
                  <a:ext cx="358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168640" y="3594240"/>
                  <a:ext cx="358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166840" y="3840120"/>
                  <a:ext cx="35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451240" y="3843360"/>
                  <a:ext cx="3603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614680" y="3841920"/>
                  <a:ext cx="358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906640" y="3840120"/>
                  <a:ext cx="357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181400" y="2860200"/>
                  <a:ext cx="1038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10560" y="3428640"/>
                  <a:ext cx="840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lyce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614600" y="6262560"/>
                  <a:ext cx="17366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 Structural formu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073840" y="6195960"/>
                  <a:ext cx="1821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 Space-filling mod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7200" y="4667040"/>
                  <a:ext cx="10508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atty acid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638840" y="6091200"/>
                  <a:ext cx="14223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c) Phospholipi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16207200">
                  <a:off x="1284480" y="5261040"/>
                  <a:ext cx="1474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phobic tail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8256960" y="5186520"/>
                  <a:ext cx="8100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phil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8043840" y="5319720"/>
                  <a:ext cx="25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249400" y="5533920"/>
                  <a:ext cx="895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drophob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ails       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056440" y="5661000"/>
                  <a:ext cx="19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7947000" y="5661000"/>
                  <a:ext cx="30636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347280" y="2893680"/>
                  <a:ext cx="284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rot="16207200">
                  <a:off x="1324080" y="2892240"/>
                  <a:ext cx="14241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philic he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019320" y="2336040"/>
                  <a:ext cx="43668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15240" y="2382480"/>
                  <a:ext cx="788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oli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479400" y="2247840"/>
                  <a:ext cx="29628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24360" y="6260760"/>
                  <a:ext cx="1177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gure 5.13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3" name=""/>
            <p:cNvSpPr/>
            <p:nvPr/>
          </p:nvSpPr>
          <p:spPr>
            <a:xfrm>
              <a:off x="3460680" y="2386800"/>
              <a:ext cx="68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(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EED-A092-4741-B264-0F883CFA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ructure of phospholip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a bilayer arrangement found in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709200" y="2438280"/>
            <a:ext cx="7672680" cy="3962880"/>
            <a:chOff x="709200" y="2438280"/>
            <a:chExt cx="7672680" cy="3962880"/>
          </a:xfrm>
        </p:grpSpPr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1981080" y="2438280"/>
              <a:ext cx="6400800" cy="38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"/>
            <p:cNvGrpSpPr/>
            <p:nvPr/>
          </p:nvGrpSpPr>
          <p:grpSpPr>
            <a:xfrm>
              <a:off x="2012400" y="2604960"/>
              <a:ext cx="3628080" cy="3501000"/>
              <a:chOff x="2012400" y="2604960"/>
              <a:chExt cx="3628080" cy="3501000"/>
            </a:xfrm>
          </p:grpSpPr>
          <p:sp>
            <p:nvSpPr>
              <p:cNvPr id="1070" name=""/>
              <p:cNvSpPr/>
              <p:nvPr/>
            </p:nvSpPr>
            <p:spPr>
              <a:xfrm>
                <a:off x="2070360" y="2828880"/>
                <a:ext cx="939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phil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ead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81600" y="2604960"/>
                <a:ext cx="73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5360" y="5364000"/>
                <a:ext cx="73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012400" y="5648400"/>
                <a:ext cx="10429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phob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ail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70920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83E-1BE4-4485-A229-4E908AC2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ero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ipids characterized by a carbon skeleton consisting of four fused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5A03-F188-4254-9413-4555E756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steroid, choleste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in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ecursor for some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782280" y="3151440"/>
            <a:ext cx="7215120" cy="2665800"/>
            <a:chOff x="782280" y="3151440"/>
            <a:chExt cx="7215120" cy="2665800"/>
          </a:xfrm>
        </p:grpSpPr>
        <p:grpSp>
          <p:nvGrpSpPr>
            <p:cNvPr id="1082" name=""/>
            <p:cNvGrpSpPr/>
            <p:nvPr/>
          </p:nvGrpSpPr>
          <p:grpSpPr>
            <a:xfrm>
              <a:off x="2374560" y="3151440"/>
              <a:ext cx="5622840" cy="2639880"/>
              <a:chOff x="2374560" y="3151440"/>
              <a:chExt cx="5622840" cy="2639880"/>
            </a:xfrm>
          </p:grpSpPr>
          <p:pic>
            <p:nvPicPr>
              <p:cNvPr id="10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21240" y="3341520"/>
                <a:ext cx="4876560" cy="238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4" name=""/>
              <p:cNvSpPr/>
              <p:nvPr/>
            </p:nvSpPr>
            <p:spPr>
              <a:xfrm>
                <a:off x="2374560" y="5516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02600" y="44658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950360" y="37512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91600" y="315144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22200" y="320688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44160" y="3684600"/>
                <a:ext cx="453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782280" y="5511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8D57-8231-468C-9BE8-E2309390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4: Proteins have many structures, resulting in a wide range of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any roles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59D5-B352-4F34-8E14-080AC265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verview of protein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163080" y="1689120"/>
            <a:ext cx="8676000" cy="4356360"/>
            <a:chOff x="163080" y="1689120"/>
            <a:chExt cx="8676000" cy="4356360"/>
          </a:xfrm>
        </p:grpSpPr>
        <p:pic>
          <p:nvPicPr>
            <p:cNvPr id="1098" name="" descr=""/>
            <p:cNvPicPr/>
            <p:nvPr/>
          </p:nvPicPr>
          <p:blipFill>
            <a:blip r:embed="rId1"/>
            <a:stretch/>
          </p:blipFill>
          <p:spPr>
            <a:xfrm>
              <a:off x="1143000" y="1689120"/>
              <a:ext cx="769608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163080" y="5739840"/>
              <a:ext cx="94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254-C50D-487C-9862-D0967BF70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type of protein that acts as a catalyst, speeding up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80600" y="2323440"/>
            <a:ext cx="8406720" cy="4242960"/>
            <a:chOff x="480600" y="2323440"/>
            <a:chExt cx="8406720" cy="4242960"/>
          </a:xfrm>
        </p:grpSpPr>
        <p:grpSp>
          <p:nvGrpSpPr>
            <p:cNvPr id="1104" name=""/>
            <p:cNvGrpSpPr/>
            <p:nvPr/>
          </p:nvGrpSpPr>
          <p:grpSpPr>
            <a:xfrm>
              <a:off x="1841040" y="2323440"/>
              <a:ext cx="7046280" cy="4211280"/>
              <a:chOff x="1841040" y="2323440"/>
              <a:chExt cx="7046280" cy="421128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1876320" y="2323440"/>
                <a:ext cx="7011000" cy="4211280"/>
                <a:chOff x="1876320" y="2323440"/>
                <a:chExt cx="7011000" cy="421128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1876320" y="2323440"/>
                  <a:ext cx="7011000" cy="4211280"/>
                  <a:chOff x="1876320" y="2323440"/>
                  <a:chExt cx="7011000" cy="4211280"/>
                </a:xfrm>
              </p:grpSpPr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1876320" y="2323440"/>
                    <a:ext cx="7011000" cy="4211280"/>
                    <a:chOff x="1876320" y="2323440"/>
                    <a:chExt cx="7011000" cy="421128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2460240" y="2394000"/>
                      <a:ext cx="221760" cy="22356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34920">
                      <a:solidFill>
                        <a:srgbClr val="0098d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09" name=""/>
                    <p:cNvGrpSpPr/>
                    <p:nvPr/>
                  </p:nvGrpSpPr>
                  <p:grpSpPr>
                    <a:xfrm>
                      <a:off x="1876320" y="2323440"/>
                      <a:ext cx="7011000" cy="4211280"/>
                      <a:chOff x="1876320" y="2323440"/>
                      <a:chExt cx="7011000" cy="4211280"/>
                    </a:xfrm>
                  </p:grpSpPr>
                  <p:grpSp>
                    <p:nvGrpSpPr>
                      <p:cNvPr id="1110" name=""/>
                      <p:cNvGrpSpPr/>
                      <p:nvPr/>
                    </p:nvGrpSpPr>
                    <p:grpSpPr>
                      <a:xfrm>
                        <a:off x="1876320" y="2458800"/>
                        <a:ext cx="7011000" cy="4075920"/>
                        <a:chOff x="1876320" y="2458800"/>
                        <a:chExt cx="7011000" cy="4075920"/>
                      </a:xfrm>
                    </p:grpSpPr>
                    <p:pic>
                      <p:nvPicPr>
                        <p:cNvPr id="1111" name="" descr=""/>
                        <p:cNvPicPr/>
                        <p:nvPr/>
                      </p:nvPicPr>
                      <p:blipFill>
                        <a:blip r:embed="rId1"/>
                        <a:stretch/>
                      </p:blipFill>
                      <p:spPr>
                        <a:xfrm>
                          <a:off x="2758680" y="2458800"/>
                          <a:ext cx="4630320" cy="3459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>
                          <a:off x="5250960" y="2682720"/>
                          <a:ext cx="863280" cy="457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Substrat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sucrose)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>
                          <a:off x="4355640" y="4076640"/>
                          <a:ext cx="863280" cy="457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Enzyme 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sucrase)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>
                          <a:off x="4350960" y="3909960"/>
                          <a:ext cx="166320" cy="3888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1800" rIns="9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5" name=""/>
                        <p:cNvSpPr/>
                        <p:nvPr/>
                      </p:nvSpPr>
                      <p:spPr>
                        <a:xfrm>
                          <a:off x="2551320" y="3846240"/>
                          <a:ext cx="74592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Glucos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>
                          <a:off x="3229560" y="4332240"/>
                          <a:ext cx="4136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OH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>
                          <a:off x="2999520" y="4995720"/>
                          <a:ext cx="49896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H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>
                          <a:off x="6946920" y="4406760"/>
                          <a:ext cx="462240" cy="299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200" spc="-1" strike="noStrike" baseline="-25000">
                              <a:solidFill>
                                <a:srgbClr val="ffffff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2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3307680" y="4663800"/>
                          <a:ext cx="77940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Fructos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1876320" y="6041880"/>
                          <a:ext cx="223560" cy="22392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34920">
                          <a:solidFill>
                            <a:srgbClr val="0098d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1800" rIns="9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>
                          <a:off x="6705000" y="6051600"/>
                          <a:ext cx="222120" cy="22212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34920">
                          <a:solidFill>
                            <a:srgbClr val="0098d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1800" rIns="9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>
                          <a:off x="6672240" y="6015960"/>
                          <a:ext cx="2215080" cy="518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3</a:t>
                          </a:r>
                          <a:r>
                            <a:rPr b="0" lang="en-US" sz="14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 Substrate is converted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o products.          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2154600" y="2339280"/>
                        <a:ext cx="2989080" cy="731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1  </a:t>
                        </a: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Active site is available for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    </a:t>
                        </a: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 molecule of substrate, the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eactant on which the enzyme acts.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4" name=""/>
                      <p:cNvSpPr/>
                      <p:nvPr/>
                    </p:nvSpPr>
                    <p:spPr>
                      <a:xfrm>
                        <a:off x="6613920" y="2323440"/>
                        <a:ext cx="1777680" cy="518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</a:t>
                        </a: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ubstrate binds to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nzyme.          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25" name=""/>
                  <p:cNvSpPr/>
                  <p:nvPr/>
                </p:nvSpPr>
                <p:spPr>
                  <a:xfrm>
                    <a:off x="6564600" y="2342880"/>
                    <a:ext cx="2840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6584400" y="2378160"/>
                  <a:ext cx="222120" cy="222120"/>
                </a:xfrm>
                <a:prstGeom prst="ellipse">
                  <a:avLst/>
                </a:prstGeom>
                <a:solidFill>
                  <a:srgbClr val="0000ff"/>
                </a:solidFill>
                <a:ln w="34920">
                  <a:solidFill>
                    <a:srgbClr val="0098d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577560" y="2342880"/>
                  <a:ext cx="284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1841040" y="6003360"/>
                <a:ext cx="22334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Products are released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480600" y="62607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2E8E-78CD-4D5A-953E-5AC2AFE9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lypeptid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pept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lymers of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e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one or more polypep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64B8-1527-48C7-8B66-BB1E6E46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mino Acid Mono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rganic molecules possessing both carboxyl and amin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in their properties due to differing side chains, called 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0FBF-F968-4E85-BCCB-D49D6BBA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1: Most macromolecules are polymers, built from mon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of the classes of life’s organic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molecules are poly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34FB-3A80-4A16-94CA-E2A3E3DD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fferent amino acids make up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0" y="1359000"/>
            <a:ext cx="9147240" cy="4966200"/>
            <a:chOff x="0" y="1359000"/>
            <a:chExt cx="9147240" cy="4966200"/>
          </a:xfrm>
        </p:grpSpPr>
        <p:pic>
          <p:nvPicPr>
            <p:cNvPr id="1140" name="" descr=""/>
            <p:cNvPicPr/>
            <p:nvPr/>
          </p:nvPicPr>
          <p:blipFill>
            <a:blip r:embed="rId1"/>
            <a:stretch/>
          </p:blipFill>
          <p:spPr>
            <a:xfrm>
              <a:off x="0" y="1359000"/>
              <a:ext cx="9147240" cy="46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8746560" y="42051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753400" y="4614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60560" y="22464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76280" y="252468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55880" y="2540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32000" y="25351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56640" y="23194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44760" y="27417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59120" y="2846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481560" y="2235960"/>
              <a:ext cx="4600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21040" y="251676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484440" y="2543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492360" y="2846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72080" y="2550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98160" y="23223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02120" y="27496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00600" y="201528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80120" y="203760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48280" y="225648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68800" y="2533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7000" y="2540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69920" y="23241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3000" y="27417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76720" y="2857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68760" y="25246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639120" y="199548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34240" y="17532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48480" y="225792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85120" y="2544840"/>
              <a:ext cx="417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53160" y="2857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24680" y="25264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35720" y="175644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232840" y="16851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236080" y="198504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196120" y="226836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164440" y="254160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172360" y="285768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38920" y="253908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448840" y="2552760"/>
              <a:ext cx="417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947960" y="375516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52640" y="433152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2640" y="46044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928880" y="4896000"/>
              <a:ext cx="336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76280" y="487260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955880" y="51958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41720" y="48988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66360" y="46702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65280" y="50799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005360" y="459972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73680" y="4906800"/>
              <a:ext cx="336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436920" y="4880520"/>
              <a:ext cx="568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10040" y="5187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86160" y="49068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501440" y="46972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22680" y="50752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51600" y="4620240"/>
              <a:ext cx="5493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35640" y="4241880"/>
              <a:ext cx="568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67520" y="5207040"/>
              <a:ext cx="19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4960" y="4915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04920" y="470520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35880" y="5091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73880" y="4896360"/>
              <a:ext cx="549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04040" y="4915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64640" y="3910680"/>
              <a:ext cx="549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75560" y="4131360"/>
              <a:ext cx="423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3880" y="4431240"/>
              <a:ext cx="423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45440" y="4429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6360" y="41346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240760" y="4754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521560" y="4421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2600" y="3267000"/>
              <a:ext cx="74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npol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36560" y="3027240"/>
              <a:ext cx="918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ycine (Gl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96800" y="3030480"/>
              <a:ext cx="905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anine (Al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01680" y="3025800"/>
              <a:ext cx="835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ine (Va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334920" y="3025800"/>
              <a:ext cx="95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ucine (Leu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77160" y="3025800"/>
              <a:ext cx="1006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oleucine (I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8200" y="5416560"/>
              <a:ext cx="1131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hionine (M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64000" y="5408640"/>
              <a:ext cx="1320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enylalanine (Ph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61240" y="254484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83360" y="232560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116840" y="275112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37680" y="5416560"/>
              <a:ext cx="1136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yptophan (Tr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016120" y="5411880"/>
              <a:ext cx="89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line (Pr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80320" y="224856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160" y="601956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968120" y="404820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36840" y="235908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751960" y="273060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5F66-E49C-4D90-AEF5-4E8FA97C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"/>
          <p:cNvGrpSpPr/>
          <p:nvPr/>
        </p:nvGrpSpPr>
        <p:grpSpPr>
          <a:xfrm>
            <a:off x="533520" y="888840"/>
            <a:ext cx="7993080" cy="5291280"/>
            <a:chOff x="533520" y="888840"/>
            <a:chExt cx="7993080" cy="5291280"/>
          </a:xfrm>
        </p:grpSpPr>
        <p:pic>
          <p:nvPicPr>
            <p:cNvPr id="1231" name="" descr=""/>
            <p:cNvPicPr/>
            <p:nvPr/>
          </p:nvPicPr>
          <p:blipFill>
            <a:blip r:embed="rId1"/>
            <a:stretch/>
          </p:blipFill>
          <p:spPr>
            <a:xfrm>
              <a:off x="533520" y="888840"/>
              <a:ext cx="79326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>
              <a:off x="8056440" y="23684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123640" y="171936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128680" y="19548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24000" y="2216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74920" y="2220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25800" y="2463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57440" y="219636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39440" y="20368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62120" y="23842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35360" y="22057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24360" y="17748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395520" y="175788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28840" y="196380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87880" y="22129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529080" y="2220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84640" y="24652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33920" y="238608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25280" y="20368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22880" y="171936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38720" y="19627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72120" y="2220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75000" y="24685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97360" y="22024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11520" y="22208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703760" y="2031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748040" y="23684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89600" y="22183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61120" y="222408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97640" y="22320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196920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97480" y="124128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70480" y="248112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48400" y="24732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567560" y="246528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64280" y="21898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80000" y="1494360"/>
              <a:ext cx="4701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08880" y="19454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50000" y="1530360"/>
              <a:ext cx="412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45160" y="17035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40480" y="220500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81680" y="22003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58160" y="2016000"/>
              <a:ext cx="304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70760" y="2373480"/>
              <a:ext cx="38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23280" y="12596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764480" y="1285920"/>
              <a:ext cx="41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70800" y="1482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43880" y="17168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43880" y="19612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72240" y="220824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819920" y="221292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1600" y="218988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4200" y="2039760"/>
              <a:ext cx="470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38840" y="237636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012160" y="2031840"/>
              <a:ext cx="469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83000" y="1785960"/>
              <a:ext cx="56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240" y="4181400"/>
              <a:ext cx="99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ic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d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08080" y="38606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390040" y="3860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201760" y="4049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205000" y="428688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05000" y="4543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46200" y="4538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20800" y="453600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197080" y="48657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636280" y="43498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54280" y="4695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324240" y="3854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90360" y="38545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502080" y="4043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5320" y="428040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513240" y="47671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54440" y="47862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44880" y="476460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13240" y="5051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944160" y="4589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62520" y="493560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08200" y="451548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84800" y="42519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280120" y="450288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78320" y="40107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305320" y="3774240"/>
              <a:ext cx="482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9480" y="474264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278320" y="4998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27800" y="50022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18240" y="499644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86240" y="5267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09600" y="48211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27600" y="51674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467400" y="3783600"/>
              <a:ext cx="482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61280" y="4049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9240" y="4034520"/>
              <a:ext cx="4827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56240" y="427896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51560" y="452988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461280" y="476964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58040" y="5248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07160" y="52513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97600" y="524592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5960" y="5516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88960" y="507060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07320" y="54165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61280" y="5001120"/>
              <a:ext cx="41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99400" y="3797280"/>
              <a:ext cx="482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761240" y="4121280"/>
              <a:ext cx="482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650000" y="4294800"/>
              <a:ext cx="417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64320" y="455436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812000" y="4546440"/>
              <a:ext cx="41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83440" y="4537800"/>
              <a:ext cx="4698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51800" y="4808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74800" y="436248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093160" y="47084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56800" y="27320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ine (S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843640" y="2732040"/>
              <a:ext cx="1245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eonine (Th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85640" y="26352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stein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y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21080" y="2627280"/>
              <a:ext cx="77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ros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Ty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26720" y="2631960"/>
              <a:ext cx="959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para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383960" y="2610000"/>
              <a:ext cx="881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tam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l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16217400">
              <a:off x="2961360" y="2807280"/>
              <a:ext cx="76320" cy="2027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2560 h 2027160"/>
                <a:gd name="textAreaBottom" fmla="*/ 1974600 h 20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0"/>
                  </a:lnTo>
                  <a:cubicBezTo>
                    <a:pt x="10800" y="9640"/>
                    <a:pt x="16200" y="10540"/>
                    <a:pt x="21600" y="10540"/>
                  </a:cubicBezTo>
                  <a:cubicBezTo>
                    <a:pt x="16200" y="10540"/>
                    <a:pt x="10800" y="11440"/>
                    <a:pt x="10800" y="1234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76600" y="346068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id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6217400">
              <a:off x="6765120" y="2261160"/>
              <a:ext cx="76320" cy="29700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7400 h 2970000"/>
                <a:gd name="textAreaBottom" fmla="*/ 2892600 h 29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0"/>
                  </a:lnTo>
                  <a:cubicBezTo>
                    <a:pt x="10800" y="9640"/>
                    <a:pt x="16200" y="10540"/>
                    <a:pt x="21600" y="10540"/>
                  </a:cubicBezTo>
                  <a:cubicBezTo>
                    <a:pt x="16200" y="10540"/>
                    <a:pt x="10800" y="11440"/>
                    <a:pt x="10800" y="1234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90080" y="3408480"/>
              <a:ext cx="558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74000" y="5648400"/>
              <a:ext cx="1102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partic aci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s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72520" y="5645160"/>
              <a:ext cx="1152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utamic aci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Gl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26960" y="562932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ysine (Ly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66000" y="5637240"/>
              <a:ext cx="112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ginine (Ar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336800" y="5629320"/>
              <a:ext cx="1132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stidine (H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115B-DCD6-4D3D-8CCD-D568B0D19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mino Acid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inked by peptid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395600" y="1866960"/>
            <a:ext cx="41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1295280" y="1984320"/>
            <a:ext cx="6477120" cy="4467600"/>
            <a:chOff x="1295280" y="1984320"/>
            <a:chExt cx="6477120" cy="4467600"/>
          </a:xfrm>
        </p:grpSpPr>
        <p:sp>
          <p:nvSpPr>
            <p:cNvPr id="1362" name=""/>
            <p:cNvSpPr/>
            <p:nvPr/>
          </p:nvSpPr>
          <p:spPr>
            <a:xfrm>
              <a:off x="5948280" y="3389400"/>
              <a:ext cx="18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S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609560" y="4327560"/>
              <a:ext cx="182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S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95280" y="4456080"/>
              <a:ext cx="18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SMOS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5" name="" descr=""/>
            <p:cNvPicPr/>
            <p:nvPr/>
          </p:nvPicPr>
          <p:blipFill>
            <a:blip r:embed="rId1"/>
            <a:stretch/>
          </p:blipFill>
          <p:spPr>
            <a:xfrm>
              <a:off x="3308400" y="2085840"/>
              <a:ext cx="3022560" cy="39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3569760" y="23572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57520" y="263052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58416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255840" y="3155760"/>
              <a:ext cx="46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17760" y="288432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0808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587400" y="3395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16000" y="34084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0644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882680" y="3144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243120" y="3144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95840" y="1984320"/>
              <a:ext cx="704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pt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74960" y="411012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65320" y="46116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982840" y="53895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124160" y="289224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23040" y="289728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81520" y="340848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370400" y="340848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68880" y="314496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9160" y="540072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584520" y="5146560"/>
              <a:ext cx="3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30760" y="564192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414680" y="5138640"/>
              <a:ext cx="3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46520" y="562932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59400" y="5661000"/>
              <a:ext cx="3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26120" y="513864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13520" y="540072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124160" y="314496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29160" y="315432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584520" y="538596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08560" y="5410080"/>
              <a:ext cx="369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62640" y="461016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51560" y="4503600"/>
              <a:ext cx="942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de ch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64240" y="2362320"/>
              <a:ext cx="533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77080" y="3408480"/>
              <a:ext cx="37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06920" y="340848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068720" y="5649840"/>
              <a:ext cx="3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83040" y="564984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92680" y="5661000"/>
              <a:ext cx="373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87840" y="3777480"/>
              <a:ext cx="4604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397400" y="2630520"/>
              <a:ext cx="461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6440" y="263052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863880" y="4884840"/>
              <a:ext cx="461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680000" y="488484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97560" y="4872240"/>
              <a:ext cx="463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70000" y="53974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10328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677840" y="5400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1292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9072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30480" y="5398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1140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08400" y="3141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08200" y="31449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41480" y="31417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4680" y="4694400"/>
              <a:ext cx="704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pt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37360" y="598788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N-terminu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89640" y="5168880"/>
              <a:ext cx="125640" cy="75420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19440 h 754200"/>
                <a:gd name="textAreaBottom" fmla="*/ 7347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389640" y="4351320"/>
              <a:ext cx="125640" cy="754200"/>
            </a:xfrm>
            <a:custGeom>
              <a:avLst/>
              <a:gdLst>
                <a:gd name="textAreaLeft" fmla="*/ 0 w 125640"/>
                <a:gd name="textAreaRight" fmla="*/ 45360 w 125640"/>
                <a:gd name="textAreaTop" fmla="*/ 19440 h 754200"/>
                <a:gd name="textAreaBottom" fmla="*/ 7347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407280" y="5411880"/>
              <a:ext cx="944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994120" y="3713040"/>
              <a:ext cx="372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69680" y="61336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083400" y="6146640"/>
              <a:ext cx="421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938120" y="5994360"/>
              <a:ext cx="1085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boxyl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-terminu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543D-D6AA-47A8-A719-6888A449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33399"/>
                </a:solidFill>
                <a:latin typeface="Times New Roman"/>
              </a:rPr>
              <a:t>Determining the Amino Acid Sequence of a Polypeptide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mino acid sequences of polypept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first determined using chemical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w be determined by automated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348-BEEB-47F6-867E-FE3F23B3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tein Conformation and Fun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ein’s specific co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how i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8496-C1B8-4E6E-A7C9-2040E9F15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odels of protein co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1884960" y="1293840"/>
            <a:ext cx="5544720" cy="5196240"/>
            <a:chOff x="1884960" y="1293840"/>
            <a:chExt cx="5544720" cy="5196240"/>
          </a:xfrm>
        </p:grpSpPr>
        <p:grpSp>
          <p:nvGrpSpPr>
            <p:cNvPr id="1441" name=""/>
            <p:cNvGrpSpPr/>
            <p:nvPr/>
          </p:nvGrpSpPr>
          <p:grpSpPr>
            <a:xfrm>
              <a:off x="3569040" y="1293840"/>
              <a:ext cx="3860640" cy="5196240"/>
              <a:chOff x="3569040" y="1293840"/>
              <a:chExt cx="3860640" cy="5196240"/>
            </a:xfrm>
          </p:grpSpPr>
          <p:pic>
            <p:nvPicPr>
              <p:cNvPr id="14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19960" y="1293840"/>
                <a:ext cx="3257280" cy="49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3" name=""/>
              <p:cNvSpPr/>
              <p:nvPr/>
            </p:nvSpPr>
            <p:spPr>
              <a:xfrm>
                <a:off x="3619800" y="3593880"/>
                <a:ext cx="193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ribbo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569040" y="6184440"/>
                <a:ext cx="2519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A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pace-filling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591520" y="2300040"/>
                <a:ext cx="1565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roo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862960" y="5229000"/>
                <a:ext cx="1566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roo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7" name=""/>
            <p:cNvSpPr/>
            <p:nvPr/>
          </p:nvSpPr>
          <p:spPr>
            <a:xfrm>
              <a:off x="1884960" y="6184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1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E23-D444-4E16-A4D9-AAB1ED6B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our Levels of Protein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y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unique sequence of amino acids in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3068280" y="2070360"/>
            <a:ext cx="3548520" cy="4410360"/>
            <a:chOff x="3068280" y="2070360"/>
            <a:chExt cx="3548520" cy="4410360"/>
          </a:xfrm>
        </p:grpSpPr>
        <p:sp>
          <p:nvSpPr>
            <p:cNvPr id="1452" name=""/>
            <p:cNvSpPr/>
            <p:nvPr/>
          </p:nvSpPr>
          <p:spPr>
            <a:xfrm>
              <a:off x="3068280" y="61750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33880" y="589284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244120" y="6018120"/>
              <a:ext cx="23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73600" y="2149560"/>
              <a:ext cx="943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 sub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6" name="" descr=""/>
            <p:cNvPicPr/>
            <p:nvPr/>
          </p:nvPicPr>
          <p:blipFill>
            <a:blip r:embed="rId1"/>
            <a:stretch/>
          </p:blipFill>
          <p:spPr>
            <a:xfrm>
              <a:off x="4516560" y="2111400"/>
              <a:ext cx="79992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3733920" y="2070360"/>
              <a:ext cx="88416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25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99120" y="60390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82360" y="6124680"/>
              <a:ext cx="108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boxyl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97320" y="588492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4398840" y="2176200"/>
              <a:ext cx="35424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65640" y="2241720"/>
              <a:ext cx="5302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5224320" y="2320920"/>
              <a:ext cx="4716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10920" y="5965920"/>
              <a:ext cx="236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690080" y="209988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70000" y="20826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51720" y="208260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32720" y="210132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89960" y="216828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28120" y="224424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28120" y="23396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48200" y="237924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72600" y="239040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784400" y="239364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714560" y="24062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634280" y="242856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67680" y="248400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511160" y="25444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69400" y="261900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70120" y="27126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516920" y="277776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91800" y="281124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74960" y="284904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47680" y="285876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28680" y="28490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08960" y="287136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29080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043240" y="29588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4000" y="30268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86680" y="463680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83080" y="4725720"/>
              <a:ext cx="2336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01800" y="48016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578120" y="483192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54440" y="484956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41560" y="485748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600" y="48668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00320" y="488592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59000" y="495252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31280" y="50400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71520" y="510192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95560" y="513036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08440" y="5130360"/>
              <a:ext cx="2736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29600" y="512712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551120" y="51382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68680" y="517644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7440" y="526860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93880" y="53366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61200" y="5392440"/>
              <a:ext cx="2613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40040" y="538272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14560" y="53478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790880" y="530496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60000" y="527796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940640" y="524304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030640" y="5209920"/>
              <a:ext cx="2336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082840" y="52686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116320" y="534168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102640" y="542880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072400" y="551772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017680" y="55796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941360" y="561456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60000" y="563364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787640" y="565596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07360" y="568296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24200" y="56890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546800" y="571140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05760" y="578916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20880" y="587484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44640" y="59544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6560" y="600840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75680" y="604476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45160" y="607032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31920" y="605268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908960" y="602424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985280" y="600840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64320" y="436068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24800" y="442080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951080" y="450504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85200" y="4559040"/>
              <a:ext cx="258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804920" y="4570200"/>
              <a:ext cx="259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718520" y="4576320"/>
              <a:ext cx="2642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46160" y="4592160"/>
              <a:ext cx="2566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59760" y="4605120"/>
              <a:ext cx="267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23120" y="4293720"/>
              <a:ext cx="262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05200" y="4306680"/>
              <a:ext cx="25056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82240" y="4322520"/>
              <a:ext cx="271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7DEE-2430-4FA0-AF6B-F79357A9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533520" y="3134880"/>
            <a:ext cx="8348400" cy="3189600"/>
            <a:chOff x="533520" y="3134880"/>
            <a:chExt cx="8348400" cy="3189600"/>
          </a:xfrm>
        </p:grpSpPr>
        <p:grpSp>
          <p:nvGrpSpPr>
            <p:cNvPr id="1548" name=""/>
            <p:cNvGrpSpPr/>
            <p:nvPr/>
          </p:nvGrpSpPr>
          <p:grpSpPr>
            <a:xfrm>
              <a:off x="609480" y="3316320"/>
              <a:ext cx="5261040" cy="2784600"/>
              <a:chOff x="609480" y="3316320"/>
              <a:chExt cx="5261040" cy="278460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609480" y="3316320"/>
                <a:ext cx="5261040" cy="2784600"/>
                <a:chOff x="609480" y="3316320"/>
                <a:chExt cx="5261040" cy="2784600"/>
              </a:xfrm>
            </p:grpSpPr>
            <p:pic>
              <p:nvPicPr>
                <p:cNvPr id="15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9480" y="3316320"/>
                  <a:ext cx="5261040" cy="278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1" name=""/>
                <p:cNvSpPr/>
                <p:nvPr/>
              </p:nvSpPr>
              <p:spPr>
                <a:xfrm>
                  <a:off x="610560" y="5257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93080" y="5257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2914560" y="5187240"/>
                <a:ext cx="754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li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838080" y="313488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eated sh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853560" y="3787920"/>
              <a:ext cx="551160" cy="9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1405080" y="3349440"/>
              <a:ext cx="1250640" cy="43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33520" y="3505320"/>
              <a:ext cx="974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491920" y="3662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349000" y="3703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523600" y="37976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642760" y="3548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85520" y="338292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85680" y="3540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2120" y="35766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00160" y="34070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55680" y="36752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090600" y="38116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3142800" y="3508200"/>
              <a:ext cx="338760" cy="664920"/>
              <a:chOff x="3142800" y="3508200"/>
              <a:chExt cx="338760" cy="664920"/>
            </a:xfrm>
          </p:grpSpPr>
          <p:sp>
            <p:nvSpPr>
              <p:cNvPr id="1569" name=""/>
              <p:cNvSpPr/>
              <p:nvPr/>
            </p:nvSpPr>
            <p:spPr>
              <a:xfrm>
                <a:off x="3223440" y="38372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42800" y="35082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69800" y="3681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3319200" y="3649680"/>
              <a:ext cx="285120" cy="473040"/>
              <a:chOff x="3319200" y="3649680"/>
              <a:chExt cx="285120" cy="473040"/>
            </a:xfrm>
          </p:grpSpPr>
          <p:sp>
            <p:nvSpPr>
              <p:cNvPr id="1573" name=""/>
              <p:cNvSpPr/>
              <p:nvPr/>
            </p:nvSpPr>
            <p:spPr>
              <a:xfrm>
                <a:off x="3319200" y="3649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46200" y="37868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413160" y="3376440"/>
              <a:ext cx="295560" cy="393480"/>
              <a:chOff x="3413160" y="3376440"/>
              <a:chExt cx="295560" cy="3934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450600" y="3555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413160" y="33764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569760" y="3345120"/>
              <a:ext cx="334080" cy="583920"/>
              <a:chOff x="3569760" y="3345120"/>
              <a:chExt cx="334080" cy="583920"/>
            </a:xfrm>
          </p:grpSpPr>
          <p:sp>
            <p:nvSpPr>
              <p:cNvPr id="1579" name=""/>
              <p:cNvSpPr/>
              <p:nvPr/>
            </p:nvSpPr>
            <p:spPr>
              <a:xfrm>
                <a:off x="3569760" y="33451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03960" y="3555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645720" y="3714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3719160" y="3403800"/>
              <a:ext cx="280080" cy="376200"/>
              <a:chOff x="3719160" y="3403800"/>
              <a:chExt cx="280080" cy="376200"/>
            </a:xfrm>
          </p:grpSpPr>
          <p:sp>
            <p:nvSpPr>
              <p:cNvPr id="1583" name=""/>
              <p:cNvSpPr/>
              <p:nvPr/>
            </p:nvSpPr>
            <p:spPr>
              <a:xfrm>
                <a:off x="3741120" y="35658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19160" y="34038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2761920" y="334512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833200" y="3714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3865320" y="3662280"/>
              <a:ext cx="307080" cy="369360"/>
              <a:chOff x="3865320" y="3662280"/>
              <a:chExt cx="307080" cy="369360"/>
            </a:xfrm>
          </p:grpSpPr>
          <p:sp>
            <p:nvSpPr>
              <p:cNvPr id="1588" name=""/>
              <p:cNvSpPr/>
              <p:nvPr/>
            </p:nvSpPr>
            <p:spPr>
              <a:xfrm>
                <a:off x="3865320" y="3662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08160" y="38174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3952440" y="3507120"/>
              <a:ext cx="329760" cy="663120"/>
              <a:chOff x="3952440" y="3507120"/>
              <a:chExt cx="329760" cy="663120"/>
            </a:xfrm>
          </p:grpSpPr>
          <p:sp>
            <p:nvSpPr>
              <p:cNvPr id="1591" name=""/>
              <p:cNvSpPr/>
              <p:nvPr/>
            </p:nvSpPr>
            <p:spPr>
              <a:xfrm>
                <a:off x="3952440" y="35071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85920" y="3681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024080" y="38343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132080" y="3649680"/>
              <a:ext cx="285120" cy="469080"/>
              <a:chOff x="4132080" y="3649680"/>
              <a:chExt cx="285120" cy="469080"/>
            </a:xfrm>
          </p:grpSpPr>
          <p:sp>
            <p:nvSpPr>
              <p:cNvPr id="1595" name=""/>
              <p:cNvSpPr/>
              <p:nvPr/>
            </p:nvSpPr>
            <p:spPr>
              <a:xfrm>
                <a:off x="4132080" y="3649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59080" y="37828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224240" y="3373200"/>
              <a:ext cx="290880" cy="390600"/>
              <a:chOff x="4224240" y="3373200"/>
              <a:chExt cx="290880" cy="390600"/>
            </a:xfrm>
          </p:grpSpPr>
          <p:sp>
            <p:nvSpPr>
              <p:cNvPr id="1598" name=""/>
              <p:cNvSpPr/>
              <p:nvPr/>
            </p:nvSpPr>
            <p:spPr>
              <a:xfrm>
                <a:off x="4257000" y="35496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224240" y="33732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0" name=""/>
            <p:cNvSpPr/>
            <p:nvPr/>
          </p:nvSpPr>
          <p:spPr>
            <a:xfrm>
              <a:off x="4522320" y="34070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551120" y="3571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4668480" y="3673440"/>
              <a:ext cx="305640" cy="355320"/>
              <a:chOff x="4668480" y="3673440"/>
              <a:chExt cx="305640" cy="355320"/>
            </a:xfrm>
          </p:grpSpPr>
          <p:sp>
            <p:nvSpPr>
              <p:cNvPr id="1603" name=""/>
              <p:cNvSpPr/>
              <p:nvPr/>
            </p:nvSpPr>
            <p:spPr>
              <a:xfrm>
                <a:off x="4668480" y="36734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709880" y="381456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4755600" y="3490920"/>
              <a:ext cx="329400" cy="664200"/>
              <a:chOff x="4755600" y="3490920"/>
              <a:chExt cx="329400" cy="664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4755600" y="34909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788720" y="3665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26880" y="38192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4933440" y="3659040"/>
              <a:ext cx="285480" cy="469440"/>
              <a:chOff x="4933440" y="3659040"/>
              <a:chExt cx="285480" cy="469440"/>
            </a:xfrm>
          </p:grpSpPr>
          <p:sp>
            <p:nvSpPr>
              <p:cNvPr id="1610" name=""/>
              <p:cNvSpPr/>
              <p:nvPr/>
            </p:nvSpPr>
            <p:spPr>
              <a:xfrm>
                <a:off x="4933440" y="36590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60800" y="37926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382640" y="3367080"/>
              <a:ext cx="329760" cy="561600"/>
              <a:chOff x="4382640" y="3367080"/>
              <a:chExt cx="329760" cy="561600"/>
            </a:xfrm>
          </p:grpSpPr>
          <p:sp>
            <p:nvSpPr>
              <p:cNvPr id="1613" name=""/>
              <p:cNvSpPr/>
              <p:nvPr/>
            </p:nvSpPr>
            <p:spPr>
              <a:xfrm>
                <a:off x="4382640" y="33670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07840" y="3556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54280" y="3714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029200" y="3383280"/>
              <a:ext cx="294120" cy="390240"/>
              <a:chOff x="5029200" y="3383280"/>
              <a:chExt cx="294120" cy="390240"/>
            </a:xfrm>
          </p:grpSpPr>
          <p:sp>
            <p:nvSpPr>
              <p:cNvPr id="1617" name=""/>
              <p:cNvSpPr/>
              <p:nvPr/>
            </p:nvSpPr>
            <p:spPr>
              <a:xfrm>
                <a:off x="5065200" y="3559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29200" y="33832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2631600" y="4176720"/>
              <a:ext cx="313200" cy="379440"/>
              <a:chOff x="2631600" y="4176720"/>
              <a:chExt cx="313200" cy="379440"/>
            </a:xfrm>
          </p:grpSpPr>
          <p:sp>
            <p:nvSpPr>
              <p:cNvPr id="1620" name=""/>
              <p:cNvSpPr/>
              <p:nvPr/>
            </p:nvSpPr>
            <p:spPr>
              <a:xfrm>
                <a:off x="2686680" y="4341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631600" y="417672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2560320" y="4502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2860200" y="4317840"/>
              <a:ext cx="283680" cy="472680"/>
              <a:chOff x="2860200" y="4317840"/>
              <a:chExt cx="283680" cy="472680"/>
            </a:xfrm>
          </p:grpSpPr>
          <p:sp>
            <p:nvSpPr>
              <p:cNvPr id="1624" name=""/>
              <p:cNvSpPr/>
              <p:nvPr/>
            </p:nvSpPr>
            <p:spPr>
              <a:xfrm>
                <a:off x="2860200" y="4317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885760" y="44546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2910960" y="4029120"/>
              <a:ext cx="339120" cy="664920"/>
              <a:chOff x="2910960" y="4029120"/>
              <a:chExt cx="339120" cy="664920"/>
            </a:xfrm>
          </p:grpSpPr>
          <p:sp>
            <p:nvSpPr>
              <p:cNvPr id="1627" name=""/>
              <p:cNvSpPr/>
              <p:nvPr/>
            </p:nvSpPr>
            <p:spPr>
              <a:xfrm>
                <a:off x="2991960" y="43581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910960" y="40291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937600" y="42015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3082320" y="4354560"/>
              <a:ext cx="303840" cy="367920"/>
              <a:chOff x="3082320" y="4354560"/>
              <a:chExt cx="303840" cy="367920"/>
            </a:xfrm>
          </p:grpSpPr>
          <p:sp>
            <p:nvSpPr>
              <p:cNvPr id="1631" name=""/>
              <p:cNvSpPr/>
              <p:nvPr/>
            </p:nvSpPr>
            <p:spPr>
              <a:xfrm>
                <a:off x="3082320" y="43545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121920" y="45082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3186720" y="4202640"/>
              <a:ext cx="279000" cy="376200"/>
              <a:chOff x="3186720" y="4202640"/>
              <a:chExt cx="279000" cy="376200"/>
            </a:xfrm>
          </p:grpSpPr>
          <p:sp>
            <p:nvSpPr>
              <p:cNvPr id="1634" name=""/>
              <p:cNvSpPr/>
              <p:nvPr/>
            </p:nvSpPr>
            <p:spPr>
              <a:xfrm>
                <a:off x="3207600" y="43646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186720" y="42026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3323520" y="4277520"/>
              <a:ext cx="332640" cy="583200"/>
              <a:chOff x="3323520" y="4277520"/>
              <a:chExt cx="332640" cy="583200"/>
            </a:xfrm>
          </p:grpSpPr>
          <p:sp>
            <p:nvSpPr>
              <p:cNvPr id="1637" name=""/>
              <p:cNvSpPr/>
              <p:nvPr/>
            </p:nvSpPr>
            <p:spPr>
              <a:xfrm>
                <a:off x="3323520" y="42775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355200" y="44899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398040" y="4646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3462120" y="4146480"/>
              <a:ext cx="297360" cy="392040"/>
              <a:chOff x="3462120" y="4146480"/>
              <a:chExt cx="297360" cy="392040"/>
            </a:xfrm>
          </p:grpSpPr>
          <p:sp>
            <p:nvSpPr>
              <p:cNvPr id="1641" name=""/>
              <p:cNvSpPr/>
              <p:nvPr/>
            </p:nvSpPr>
            <p:spPr>
              <a:xfrm>
                <a:off x="3501360" y="4324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462120" y="41464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3665160" y="4314960"/>
              <a:ext cx="285120" cy="473040"/>
              <a:chOff x="3665160" y="4314960"/>
              <a:chExt cx="285120" cy="473040"/>
            </a:xfrm>
          </p:grpSpPr>
          <p:sp>
            <p:nvSpPr>
              <p:cNvPr id="1644" name=""/>
              <p:cNvSpPr/>
              <p:nvPr/>
            </p:nvSpPr>
            <p:spPr>
              <a:xfrm>
                <a:off x="3665160" y="4314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92160" y="44521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3715920" y="3998880"/>
              <a:ext cx="330840" cy="664920"/>
              <a:chOff x="3715920" y="3998880"/>
              <a:chExt cx="330840" cy="664920"/>
            </a:xfrm>
          </p:grpSpPr>
          <p:sp>
            <p:nvSpPr>
              <p:cNvPr id="1647" name=""/>
              <p:cNvSpPr/>
              <p:nvPr/>
            </p:nvSpPr>
            <p:spPr>
              <a:xfrm>
                <a:off x="3715920" y="3998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9400" y="4175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88640" y="43279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3895560" y="4322880"/>
              <a:ext cx="306720" cy="371520"/>
              <a:chOff x="3895560" y="4322880"/>
              <a:chExt cx="306720" cy="371520"/>
            </a:xfrm>
          </p:grpSpPr>
          <p:sp>
            <p:nvSpPr>
              <p:cNvPr id="1651" name=""/>
              <p:cNvSpPr/>
              <p:nvPr/>
            </p:nvSpPr>
            <p:spPr>
              <a:xfrm>
                <a:off x="3895560" y="4322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938040" y="44802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4000320" y="4199400"/>
              <a:ext cx="278640" cy="376200"/>
              <a:chOff x="4000320" y="4199400"/>
              <a:chExt cx="278640" cy="376200"/>
            </a:xfrm>
          </p:grpSpPr>
          <p:sp>
            <p:nvSpPr>
              <p:cNvPr id="1654" name=""/>
              <p:cNvSpPr/>
              <p:nvPr/>
            </p:nvSpPr>
            <p:spPr>
              <a:xfrm>
                <a:off x="4020840" y="43614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000320" y="41994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4136760" y="4259160"/>
              <a:ext cx="334080" cy="583920"/>
              <a:chOff x="4136760" y="4259160"/>
              <a:chExt cx="334080" cy="583920"/>
            </a:xfrm>
          </p:grpSpPr>
          <p:sp>
            <p:nvSpPr>
              <p:cNvPr id="1657" name=""/>
              <p:cNvSpPr/>
              <p:nvPr/>
            </p:nvSpPr>
            <p:spPr>
              <a:xfrm>
                <a:off x="4136760" y="42591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71680" y="4470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212720" y="4628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4262400" y="4162320"/>
              <a:ext cx="298800" cy="393840"/>
              <a:chOff x="4262400" y="4162320"/>
              <a:chExt cx="298800" cy="39384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03080" y="4341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262400" y="416232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4492440" y="4317840"/>
              <a:ext cx="286200" cy="472680"/>
              <a:chOff x="4492440" y="4317840"/>
              <a:chExt cx="286200" cy="472680"/>
            </a:xfrm>
          </p:grpSpPr>
          <p:sp>
            <p:nvSpPr>
              <p:cNvPr id="1664" name=""/>
              <p:cNvSpPr/>
              <p:nvPr/>
            </p:nvSpPr>
            <p:spPr>
              <a:xfrm>
                <a:off x="4492440" y="4317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520520" y="44546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4525200" y="4008600"/>
              <a:ext cx="329400" cy="664200"/>
              <a:chOff x="4525200" y="4008600"/>
              <a:chExt cx="329400" cy="664200"/>
            </a:xfrm>
          </p:grpSpPr>
          <p:sp>
            <p:nvSpPr>
              <p:cNvPr id="1667" name=""/>
              <p:cNvSpPr/>
              <p:nvPr/>
            </p:nvSpPr>
            <p:spPr>
              <a:xfrm>
                <a:off x="4525200" y="40086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56880" y="41832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596480" y="43369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4712760" y="4341960"/>
              <a:ext cx="303840" cy="368280"/>
              <a:chOff x="4712760" y="4341960"/>
              <a:chExt cx="303840" cy="368280"/>
            </a:xfrm>
          </p:grpSpPr>
          <p:sp>
            <p:nvSpPr>
              <p:cNvPr id="1671" name=""/>
              <p:cNvSpPr/>
              <p:nvPr/>
            </p:nvSpPr>
            <p:spPr>
              <a:xfrm>
                <a:off x="4712760" y="4341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752360" y="44960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4813200" y="4199400"/>
              <a:ext cx="278640" cy="376200"/>
              <a:chOff x="4813200" y="4199400"/>
              <a:chExt cx="278640" cy="376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4833720" y="43614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813200" y="41994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949280" y="4259160"/>
              <a:ext cx="332280" cy="583920"/>
              <a:chOff x="4949280" y="4259160"/>
              <a:chExt cx="332280" cy="583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49280" y="42591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980240" y="4470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023440" y="4628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072040" y="4168800"/>
              <a:ext cx="298800" cy="393480"/>
              <a:chOff x="5072040" y="4168800"/>
              <a:chExt cx="298800" cy="393480"/>
            </a:xfrm>
          </p:grpSpPr>
          <p:sp>
            <p:nvSpPr>
              <p:cNvPr id="1681" name=""/>
              <p:cNvSpPr/>
              <p:nvPr/>
            </p:nvSpPr>
            <p:spPr>
              <a:xfrm>
                <a:off x="5112720" y="4348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072040" y="41688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769320" y="4983480"/>
              <a:ext cx="437400" cy="335880"/>
              <a:chOff x="769320" y="4983480"/>
              <a:chExt cx="437400" cy="335880"/>
            </a:xfrm>
          </p:grpSpPr>
          <p:sp>
            <p:nvSpPr>
              <p:cNvPr id="1684" name=""/>
              <p:cNvSpPr/>
              <p:nvPr/>
            </p:nvSpPr>
            <p:spPr>
              <a:xfrm>
                <a:off x="769320" y="50061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948600" y="49834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742680" y="5391360"/>
              <a:ext cx="540720" cy="335880"/>
              <a:chOff x="742680" y="5391360"/>
              <a:chExt cx="540720" cy="335880"/>
            </a:xfrm>
          </p:grpSpPr>
          <p:sp>
            <p:nvSpPr>
              <p:cNvPr id="1687" name=""/>
              <p:cNvSpPr/>
              <p:nvPr/>
            </p:nvSpPr>
            <p:spPr>
              <a:xfrm>
                <a:off x="742680" y="53913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79120" y="54111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025280" y="5417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838080" y="5548680"/>
              <a:ext cx="437040" cy="335880"/>
              <a:chOff x="838080" y="5548680"/>
              <a:chExt cx="437040" cy="335880"/>
            </a:xfrm>
          </p:grpSpPr>
          <p:sp>
            <p:nvSpPr>
              <p:cNvPr id="1691" name=""/>
              <p:cNvSpPr/>
              <p:nvPr/>
            </p:nvSpPr>
            <p:spPr>
              <a:xfrm>
                <a:off x="838080" y="55702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17000" y="55486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3" name=""/>
            <p:cNvSpPr/>
            <p:nvPr/>
          </p:nvSpPr>
          <p:spPr>
            <a:xfrm>
              <a:off x="1160280" y="56116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2920" y="576900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33120" y="57643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01320" y="5800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310760" y="56134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82440" y="60008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79280" y="5913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363320" y="577548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84080" y="577836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301400" y="539280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158480" y="536616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50440" y="54705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1325160" y="5145480"/>
              <a:ext cx="437400" cy="335880"/>
              <a:chOff x="1325160" y="5145480"/>
              <a:chExt cx="437400" cy="335880"/>
            </a:xfrm>
          </p:grpSpPr>
          <p:sp>
            <p:nvSpPr>
              <p:cNvPr id="1706" name=""/>
              <p:cNvSpPr/>
              <p:nvPr/>
            </p:nvSpPr>
            <p:spPr>
              <a:xfrm>
                <a:off x="1325160" y="5167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504440" y="51454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1304640" y="5000760"/>
              <a:ext cx="421200" cy="217080"/>
              <a:chOff x="1304640" y="5000760"/>
              <a:chExt cx="421200" cy="217080"/>
            </a:xfrm>
          </p:grpSpPr>
          <p:sp>
            <p:nvSpPr>
              <p:cNvPr id="1709" name=""/>
              <p:cNvSpPr/>
              <p:nvPr/>
            </p:nvSpPr>
            <p:spPr>
              <a:xfrm>
                <a:off x="1304640" y="50036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467720" y="50007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1520640" y="4757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17480" y="48718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63280" y="480096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1713960" y="4989960"/>
              <a:ext cx="429480" cy="335880"/>
              <a:chOff x="1713960" y="4989960"/>
              <a:chExt cx="429480" cy="335880"/>
            </a:xfrm>
          </p:grpSpPr>
          <p:sp>
            <p:nvSpPr>
              <p:cNvPr id="1715" name=""/>
              <p:cNvSpPr/>
              <p:nvPr/>
            </p:nvSpPr>
            <p:spPr>
              <a:xfrm>
                <a:off x="1713960" y="50126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5320" y="49899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1563840" y="5265720"/>
              <a:ext cx="417960" cy="219240"/>
              <a:chOff x="1563840" y="5265720"/>
              <a:chExt cx="417960" cy="219240"/>
            </a:xfrm>
          </p:grpSpPr>
          <p:sp>
            <p:nvSpPr>
              <p:cNvPr id="1718" name=""/>
              <p:cNvSpPr/>
              <p:nvPr/>
            </p:nvSpPr>
            <p:spPr>
              <a:xfrm>
                <a:off x="1563840" y="527076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23680" y="52657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1685520" y="5386680"/>
              <a:ext cx="541800" cy="335880"/>
              <a:chOff x="1685520" y="5386680"/>
              <a:chExt cx="541800" cy="335880"/>
            </a:xfrm>
          </p:grpSpPr>
          <p:sp>
            <p:nvSpPr>
              <p:cNvPr id="1721" name=""/>
              <p:cNvSpPr/>
              <p:nvPr/>
            </p:nvSpPr>
            <p:spPr>
              <a:xfrm>
                <a:off x="1685520" y="53866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823760" y="54086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969200" y="5411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1771200" y="5554800"/>
              <a:ext cx="429480" cy="335880"/>
              <a:chOff x="1771200" y="5554800"/>
              <a:chExt cx="429480" cy="335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1771200" y="55749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942560" y="555480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7" name=""/>
            <p:cNvSpPr/>
            <p:nvPr/>
          </p:nvSpPr>
          <p:spPr>
            <a:xfrm>
              <a:off x="1875960" y="577692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015640" y="58942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42720" y="579744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909440" y="59817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12640" y="580248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2" name=""/>
            <p:cNvGrpSpPr/>
            <p:nvPr/>
          </p:nvGrpSpPr>
          <p:grpSpPr>
            <a:xfrm>
              <a:off x="2084400" y="5629320"/>
              <a:ext cx="417960" cy="219960"/>
              <a:chOff x="2084400" y="5629320"/>
              <a:chExt cx="417960" cy="219960"/>
            </a:xfrm>
          </p:grpSpPr>
          <p:sp>
            <p:nvSpPr>
              <p:cNvPr id="1733" name=""/>
              <p:cNvSpPr/>
              <p:nvPr/>
            </p:nvSpPr>
            <p:spPr>
              <a:xfrm>
                <a:off x="2084400" y="563508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244240" y="5629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2087280" y="5405760"/>
              <a:ext cx="540720" cy="335880"/>
              <a:chOff x="2087280" y="5405760"/>
              <a:chExt cx="540720" cy="335880"/>
            </a:xfrm>
          </p:grpSpPr>
          <p:sp>
            <p:nvSpPr>
              <p:cNvPr id="1736" name=""/>
              <p:cNvSpPr/>
              <p:nvPr/>
            </p:nvSpPr>
            <p:spPr>
              <a:xfrm>
                <a:off x="2087280" y="54057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224800" y="54288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369880" y="5431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2258640" y="5175720"/>
              <a:ext cx="429480" cy="335880"/>
              <a:chOff x="2258640" y="5175720"/>
              <a:chExt cx="429480" cy="335880"/>
            </a:xfrm>
          </p:grpSpPr>
          <p:sp>
            <p:nvSpPr>
              <p:cNvPr id="1740" name=""/>
              <p:cNvSpPr/>
              <p:nvPr/>
            </p:nvSpPr>
            <p:spPr>
              <a:xfrm>
                <a:off x="2258640" y="51958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430000" y="51757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2239920" y="5002560"/>
              <a:ext cx="419760" cy="218880"/>
              <a:chOff x="2239920" y="5002560"/>
              <a:chExt cx="419760" cy="218880"/>
            </a:xfrm>
          </p:grpSpPr>
          <p:sp>
            <p:nvSpPr>
              <p:cNvPr id="1743" name=""/>
              <p:cNvSpPr/>
              <p:nvPr/>
            </p:nvSpPr>
            <p:spPr>
              <a:xfrm>
                <a:off x="2239920" y="500724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401560" y="500256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2449080" y="47926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560320" y="489888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707920" y="48200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5193720" y="3367080"/>
              <a:ext cx="327960" cy="561600"/>
              <a:chOff x="5193720" y="3367080"/>
              <a:chExt cx="327960" cy="561600"/>
            </a:xfrm>
          </p:grpSpPr>
          <p:sp>
            <p:nvSpPr>
              <p:cNvPr id="1749" name=""/>
              <p:cNvSpPr/>
              <p:nvPr/>
            </p:nvSpPr>
            <p:spPr>
              <a:xfrm>
                <a:off x="5193720" y="336708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218920" y="35560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263560" y="37144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338800" y="3413520"/>
              <a:ext cx="278640" cy="376200"/>
              <a:chOff x="5338800" y="3413520"/>
              <a:chExt cx="278640" cy="376200"/>
            </a:xfrm>
          </p:grpSpPr>
          <p:sp>
            <p:nvSpPr>
              <p:cNvPr id="1753" name=""/>
              <p:cNvSpPr/>
              <p:nvPr/>
            </p:nvSpPr>
            <p:spPr>
              <a:xfrm>
                <a:off x="5359320" y="35755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338800" y="34135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5486040" y="3676680"/>
              <a:ext cx="304920" cy="355320"/>
              <a:chOff x="5486040" y="3676680"/>
              <a:chExt cx="304920" cy="355320"/>
            </a:xfrm>
          </p:grpSpPr>
          <p:sp>
            <p:nvSpPr>
              <p:cNvPr id="1756" name=""/>
              <p:cNvSpPr/>
              <p:nvPr/>
            </p:nvSpPr>
            <p:spPr>
              <a:xfrm>
                <a:off x="5486040" y="367668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526720" y="38178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5606640" y="37083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5292000" y="4318200"/>
              <a:ext cx="285480" cy="470520"/>
              <a:chOff x="5292000" y="4318200"/>
              <a:chExt cx="285480" cy="470520"/>
            </a:xfrm>
          </p:grpSpPr>
          <p:sp>
            <p:nvSpPr>
              <p:cNvPr id="1760" name=""/>
              <p:cNvSpPr/>
              <p:nvPr/>
            </p:nvSpPr>
            <p:spPr>
              <a:xfrm>
                <a:off x="5292000" y="431820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319360" y="445284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339880" y="4027320"/>
              <a:ext cx="331200" cy="663120"/>
              <a:chOff x="5339880" y="4027320"/>
              <a:chExt cx="331200" cy="663120"/>
            </a:xfrm>
          </p:grpSpPr>
          <p:sp>
            <p:nvSpPr>
              <p:cNvPr id="1763" name=""/>
              <p:cNvSpPr/>
              <p:nvPr/>
            </p:nvSpPr>
            <p:spPr>
              <a:xfrm>
                <a:off x="5339880" y="4027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374800" y="42019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412960" y="435456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522400" y="4351320"/>
              <a:ext cx="304920" cy="368280"/>
              <a:chOff x="5522400" y="4351320"/>
              <a:chExt cx="304920" cy="368280"/>
            </a:xfrm>
          </p:grpSpPr>
          <p:sp>
            <p:nvSpPr>
              <p:cNvPr id="1767" name=""/>
              <p:cNvSpPr/>
              <p:nvPr/>
            </p:nvSpPr>
            <p:spPr>
              <a:xfrm>
                <a:off x="5522400" y="435132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563080" y="4505400"/>
                <a:ext cx="264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5622480" y="4192920"/>
              <a:ext cx="280080" cy="375120"/>
              <a:chOff x="5622480" y="4192920"/>
              <a:chExt cx="280080" cy="375120"/>
            </a:xfrm>
          </p:grpSpPr>
          <p:sp>
            <p:nvSpPr>
              <p:cNvPr id="1770" name=""/>
              <p:cNvSpPr/>
              <p:nvPr/>
            </p:nvSpPr>
            <p:spPr>
              <a:xfrm>
                <a:off x="5644440" y="4353840"/>
                <a:ext cx="258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622480" y="4192920"/>
                <a:ext cx="258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2" name=""/>
            <p:cNvSpPr/>
            <p:nvPr/>
          </p:nvSpPr>
          <p:spPr>
            <a:xfrm>
              <a:off x="5767200" y="4475160"/>
              <a:ext cx="258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3" name="" descr=""/>
            <p:cNvPicPr/>
            <p:nvPr/>
          </p:nvPicPr>
          <p:blipFill>
            <a:blip r:embed="rId2"/>
            <a:stretch/>
          </p:blipFill>
          <p:spPr>
            <a:xfrm>
              <a:off x="6095880" y="3352680"/>
              <a:ext cx="27860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olding or coiling of the polypeptide into a repeating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ix and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eated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455040" y="5955120"/>
            <a:ext cx="1952280" cy="534960"/>
            <a:chOff x="455040" y="5955120"/>
            <a:chExt cx="1952280" cy="534960"/>
          </a:xfrm>
        </p:grpSpPr>
        <p:sp>
          <p:nvSpPr>
            <p:cNvPr id="1777" name=""/>
            <p:cNvSpPr/>
            <p:nvPr/>
          </p:nvSpPr>
          <p:spPr>
            <a:xfrm>
              <a:off x="1203120" y="598824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49200" y="5955120"/>
              <a:ext cx="258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5504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86C-84A3-42F9-892E-A5E8A789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tiary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overall three-dimensional shape of a polypept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from interactions between amino acids and R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457200" y="3016800"/>
            <a:ext cx="8445600" cy="3279240"/>
            <a:chOff x="457200" y="3016800"/>
            <a:chExt cx="8445600" cy="3279240"/>
          </a:xfrm>
        </p:grpSpPr>
        <p:sp>
          <p:nvSpPr>
            <p:cNvPr id="1784" name=""/>
            <p:cNvSpPr/>
            <p:nvPr/>
          </p:nvSpPr>
          <p:spPr>
            <a:xfrm>
              <a:off x="5394240" y="3597480"/>
              <a:ext cx="63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367320" y="3541680"/>
              <a:ext cx="63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6" name="" descr=""/>
            <p:cNvPicPr/>
            <p:nvPr/>
          </p:nvPicPr>
          <p:blipFill>
            <a:blip r:embed="rId1"/>
            <a:stretch/>
          </p:blipFill>
          <p:spPr>
            <a:xfrm>
              <a:off x="457200" y="3505320"/>
              <a:ext cx="3581280" cy="27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" descr=""/>
            <p:cNvPicPr/>
            <p:nvPr/>
          </p:nvPicPr>
          <p:blipFill>
            <a:blip r:embed="rId2"/>
            <a:stretch/>
          </p:blipFill>
          <p:spPr>
            <a:xfrm>
              <a:off x="5372280" y="3079800"/>
              <a:ext cx="286380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5365800" y="3857400"/>
              <a:ext cx="63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65800" y="4178160"/>
              <a:ext cx="63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42040" y="4430520"/>
              <a:ext cx="630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032440" y="4429080"/>
              <a:ext cx="630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24480" y="4683240"/>
              <a:ext cx="63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64320" y="5416560"/>
              <a:ext cx="628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108840" y="5416560"/>
              <a:ext cx="628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86560" y="541656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81720" y="5414760"/>
              <a:ext cx="627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99400" y="540540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08880" y="5130360"/>
              <a:ext cx="628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43680" y="4746600"/>
              <a:ext cx="628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9400" y="474804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434280" y="4748040"/>
              <a:ext cx="630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173640" y="4735440"/>
              <a:ext cx="630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389640" y="4156200"/>
              <a:ext cx="63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29400" y="3737160"/>
              <a:ext cx="627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16800" y="394020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054840" y="368928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54840" y="3940200"/>
              <a:ext cx="6300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278840" y="3016800"/>
              <a:ext cx="16239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drophobic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actions and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n der Waal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action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69080" y="3918960"/>
              <a:ext cx="1170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ckb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479840" y="3974760"/>
              <a:ext cx="1408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rdoge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59400" y="4156200"/>
              <a:ext cx="260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79960" y="5618160"/>
              <a:ext cx="1103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onic b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958080" y="3224160"/>
              <a:ext cx="3808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99360" y="41148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524920" y="355752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80040" y="4952520"/>
              <a:ext cx="1532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ulfide bri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5FDA-3D07-4F52-B097-2C49DE6B6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ternary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verall protein structure that results from the aggregation of two or more polypeptide sub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2971800" y="2513160"/>
            <a:ext cx="2952720" cy="3976560"/>
            <a:chOff x="2971800" y="2513160"/>
            <a:chExt cx="2952720" cy="3976560"/>
          </a:xfrm>
        </p:grpSpPr>
        <p:pic>
          <p:nvPicPr>
            <p:cNvPr id="1821" name="" descr=""/>
            <p:cNvPicPr/>
            <p:nvPr/>
          </p:nvPicPr>
          <p:blipFill>
            <a:blip r:embed="rId1"/>
            <a:stretch/>
          </p:blipFill>
          <p:spPr>
            <a:xfrm>
              <a:off x="2971800" y="2513160"/>
              <a:ext cx="2786040" cy="35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4778280" y="3083040"/>
              <a:ext cx="1036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ypept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33760" y="4603680"/>
              <a:ext cx="86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lla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03720" y="4794120"/>
              <a:ext cx="1266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4722840" y="4989240"/>
              <a:ext cx="572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 flipV="1">
              <a:off x="4893840" y="4989240"/>
              <a:ext cx="586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145040" y="6054840"/>
              <a:ext cx="12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145040" y="6186600"/>
              <a:ext cx="127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mogl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016600" y="5719680"/>
              <a:ext cx="460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56200" y="5783400"/>
              <a:ext cx="351000" cy="12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09000" y="5614920"/>
              <a:ext cx="448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332680" y="5780160"/>
              <a:ext cx="591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94200" y="6026040"/>
              <a:ext cx="11592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659480" y="6013440"/>
              <a:ext cx="1206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462480" y="61848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466D-1506-486E-8BFC-930D0B51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oly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long molecule consisting of many similar building blocks called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45D1-19A9-439E-BEE9-A311B58F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ur levels of protein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154080" y="2783160"/>
            <a:ext cx="8989920" cy="1712160"/>
            <a:chOff x="154080" y="2783160"/>
            <a:chExt cx="8989920" cy="1712160"/>
          </a:xfrm>
        </p:grpSpPr>
        <p:pic>
          <p:nvPicPr>
            <p:cNvPr id="1840" name="" descr=""/>
            <p:cNvPicPr/>
            <p:nvPr/>
          </p:nvPicPr>
          <p:blipFill>
            <a:blip r:embed="rId1"/>
            <a:stretch/>
          </p:blipFill>
          <p:spPr>
            <a:xfrm>
              <a:off x="657360" y="3276360"/>
              <a:ext cx="8486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154080" y="2783160"/>
              <a:ext cx="916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 flipV="1">
              <a:off x="714240" y="3176640"/>
              <a:ext cx="22860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71600" y="3481200"/>
              <a:ext cx="5335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1447920" y="3557520"/>
              <a:ext cx="457200" cy="15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9680" y="3344400"/>
              <a:ext cx="94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33720" y="3746520"/>
              <a:ext cx="1522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743200" y="3405240"/>
              <a:ext cx="304920" cy="7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132800" y="3716640"/>
              <a:ext cx="671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3198-7AAD-42AC-90AD-A1C086F5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ickle-Cell Disease: A Simple Change in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rimary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ckle-cel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a single amino acid substitution in the protein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A3E-AC84-4979-8C05-C6EB9937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moglobin structure and sickle-cel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391520" y="5264640"/>
            <a:ext cx="1676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s of abnorm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moglobin deform cell into sickle sha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453600" y="1307880"/>
            <a:ext cx="8538120" cy="5066280"/>
            <a:chOff x="453600" y="1307880"/>
            <a:chExt cx="8538120" cy="5066280"/>
          </a:xfrm>
        </p:grpSpPr>
        <p:pic>
          <p:nvPicPr>
            <p:cNvPr id="1857" name="" descr=""/>
            <p:cNvPicPr/>
            <p:nvPr/>
          </p:nvPicPr>
          <p:blipFill>
            <a:blip r:embed="rId1"/>
            <a:stretch/>
          </p:blipFill>
          <p:spPr>
            <a:xfrm>
              <a:off x="2581200" y="1658880"/>
              <a:ext cx="448164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685800" y="1433160"/>
              <a:ext cx="160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5800" y="2026440"/>
              <a:ext cx="1603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terti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5800" y="3007800"/>
              <a:ext cx="160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tern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5800" y="393192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5800" y="5044680"/>
              <a:ext cx="160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 bloo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ll 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560600" y="300960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moglobin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754280" y="3913560"/>
              <a:ext cx="160344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s do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t associat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on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other, eac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ries oxyge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766880" y="5042520"/>
              <a:ext cx="160344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rmal cells ar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of individ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moglob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s, eac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rying 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16160" y="28504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289240" y="33616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090960" y="28504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944800" y="343476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90960" y="481896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970600" y="481896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059440" y="299664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986360" y="33616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934240" y="2996640"/>
              <a:ext cx="1603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934240" y="3215880"/>
              <a:ext cx="1603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75160" y="1461600"/>
              <a:ext cx="16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475160" y="2055240"/>
              <a:ext cx="160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tertia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475160" y="3036240"/>
              <a:ext cx="16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ternary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75160" y="3579480"/>
              <a:ext cx="1604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75160" y="5206320"/>
              <a:ext cx="160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 bloo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ll 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184880" y="317160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moglobin 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78560" y="3551400"/>
              <a:ext cx="160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s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act with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e another to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ystallize into a fiber, capacity to carry oxygen is greatly reduc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309840" y="2193480"/>
              <a:ext cx="160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24760" y="2193480"/>
              <a:ext cx="1603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216160" y="170928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448000" y="1709280"/>
              <a:ext cx="94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654280" y="1714320"/>
              <a:ext cx="95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884320" y="171576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90960" y="1698120"/>
              <a:ext cx="947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22800" y="1698120"/>
              <a:ext cx="94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552840" y="16981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84960" y="1696680"/>
              <a:ext cx="94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15000" y="169668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21280" y="16855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151680" y="1685520"/>
              <a:ext cx="947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370560" y="16855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53120" y="1698120"/>
              <a:ext cx="947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022720" y="1698120"/>
              <a:ext cx="947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362320" y="1307880"/>
              <a:ext cx="196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mal hemoglob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059440" y="1321920"/>
              <a:ext cx="2185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ckle-cell hemoglob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297480" y="1838160"/>
              <a:ext cx="138600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910200" y="146556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79880" y="146556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53600" y="6068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54880" y="1478880"/>
              <a:ext cx="1536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osed hydrophobic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52792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197880" y="1599840"/>
              <a:ext cx="3160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76300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62440" y="1599840"/>
              <a:ext cx="331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2432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33480" y="1599840"/>
              <a:ext cx="342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86388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33448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563080" y="15998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785200" y="1599840"/>
              <a:ext cx="331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09480" y="1606320"/>
              <a:ext cx="3160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23412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61640" y="1614240"/>
              <a:ext cx="313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76920" y="1599840"/>
              <a:ext cx="322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533F-42B1-49B8-833B-89DC8607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What Determines Protein Conformation?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in co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physical and chemical conditions of the protein’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63C-9FAD-489B-BB78-4374A293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at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en a protein unravels and loses its native co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139040" y="2514240"/>
            <a:ext cx="6785280" cy="3430080"/>
            <a:chOff x="1139040" y="2514240"/>
            <a:chExt cx="6785280" cy="3430080"/>
          </a:xfrm>
        </p:grpSpPr>
        <p:grpSp>
          <p:nvGrpSpPr>
            <p:cNvPr id="1927" name=""/>
            <p:cNvGrpSpPr/>
            <p:nvPr/>
          </p:nvGrpSpPr>
          <p:grpSpPr>
            <a:xfrm>
              <a:off x="1676160" y="2514240"/>
              <a:ext cx="6248160" cy="3391560"/>
              <a:chOff x="1676160" y="2514240"/>
              <a:chExt cx="6248160" cy="3391560"/>
            </a:xfrm>
          </p:grpSpPr>
          <p:pic>
            <p:nvPicPr>
              <p:cNvPr id="19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040" y="2906640"/>
                <a:ext cx="5867280" cy="26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9" name=""/>
              <p:cNvSpPr/>
              <p:nvPr/>
            </p:nvSpPr>
            <p:spPr>
              <a:xfrm>
                <a:off x="3771720" y="251424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natu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71720" y="560016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natu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790960" y="499068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natured prot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676160" y="499068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mal prot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1139040" y="56386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4FF-15FD-43D3-9072-6D0C32FF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Protein-Folding Proble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go through several intermediate states on their way to a stable co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B21-5F0A-476E-89F8-C2D6A2B6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eron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otein molecules that assist in the proper folding of othe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0" y="2469600"/>
            <a:ext cx="9144000" cy="3932640"/>
            <a:chOff x="0" y="2469600"/>
            <a:chExt cx="9144000" cy="3932640"/>
          </a:xfrm>
        </p:grpSpPr>
        <p:grpSp>
          <p:nvGrpSpPr>
            <p:cNvPr id="1941" name=""/>
            <p:cNvGrpSpPr/>
            <p:nvPr/>
          </p:nvGrpSpPr>
          <p:grpSpPr>
            <a:xfrm>
              <a:off x="0" y="2469600"/>
              <a:ext cx="9144000" cy="3932640"/>
              <a:chOff x="0" y="2469600"/>
              <a:chExt cx="9144000" cy="393264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3963600"/>
                <a:ext cx="2057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ollow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lin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38240" y="2470320"/>
                <a:ext cx="7648560" cy="257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4" name=""/>
              <p:cNvSpPr/>
              <p:nvPr/>
            </p:nvSpPr>
            <p:spPr>
              <a:xfrm>
                <a:off x="838440" y="3308400"/>
                <a:ext cx="75960" cy="175248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52640" y="3003120"/>
                <a:ext cx="17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067040" y="5220720"/>
                <a:ext cx="18032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peron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fully assembl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641680" y="5244120"/>
                <a:ext cx="215892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eps of Chaperon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on: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An unfolded poly-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peptide enters th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cylinder from one end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648320" y="5212440"/>
                <a:ext cx="27432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ap attaches, causing the cylinder to change shape i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ch a way that it creates a hydrophilic environment for the folding of the polypeptide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39240" y="5212440"/>
                <a:ext cx="190476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ap come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f, and the properly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olded protein is released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58000" y="2469600"/>
                <a:ext cx="17528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rectly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old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429000" y="2774520"/>
                <a:ext cx="175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429000" y="292752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759800" y="2774880"/>
                <a:ext cx="60948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4683600" y="5251320"/>
                <a:ext cx="270360" cy="275040"/>
                <a:chOff x="4683600" y="5251320"/>
                <a:chExt cx="270360" cy="27504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4703760" y="5262480"/>
                  <a:ext cx="228600" cy="228240"/>
                </a:xfrm>
                <a:prstGeom prst="flowChartConnector">
                  <a:avLst/>
                </a:prstGeom>
                <a:solidFill>
                  <a:srgbClr val="009999"/>
                </a:solidFill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683600" y="52513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"/>
              <p:cNvGrpSpPr/>
              <p:nvPr/>
            </p:nvGrpSpPr>
            <p:grpSpPr>
              <a:xfrm>
                <a:off x="2639160" y="5695920"/>
                <a:ext cx="270360" cy="275040"/>
                <a:chOff x="2639160" y="5695920"/>
                <a:chExt cx="270360" cy="275040"/>
              </a:xfrm>
            </p:grpSpPr>
            <p:sp>
              <p:nvSpPr>
                <p:cNvPr id="1958" name=""/>
                <p:cNvSpPr/>
                <p:nvPr/>
              </p:nvSpPr>
              <p:spPr>
                <a:xfrm>
                  <a:off x="2659320" y="5707080"/>
                  <a:ext cx="228600" cy="228600"/>
                </a:xfrm>
                <a:prstGeom prst="flowChartConnector">
                  <a:avLst/>
                </a:prstGeom>
                <a:solidFill>
                  <a:srgbClr val="009999"/>
                </a:solidFill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639160" y="56959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7149240" y="5251320"/>
                <a:ext cx="270360" cy="275040"/>
                <a:chOff x="7149240" y="5251320"/>
                <a:chExt cx="270360" cy="27504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7169400" y="5262480"/>
                  <a:ext cx="228600" cy="228240"/>
                </a:xfrm>
                <a:prstGeom prst="flowChartConnector">
                  <a:avLst/>
                </a:prstGeom>
                <a:solidFill>
                  <a:srgbClr val="009999"/>
                </a:solidFill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7149240" y="52513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3" name=""/>
            <p:cNvSpPr/>
            <p:nvPr/>
          </p:nvSpPr>
          <p:spPr>
            <a:xfrm>
              <a:off x="225000" y="60955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5622-20EE-43F0-954D-363A8F63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determine a protein’s three-dimens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2957400" y="1996920"/>
            <a:ext cx="4586400" cy="4455000"/>
            <a:chOff x="2957400" y="1996920"/>
            <a:chExt cx="4586400" cy="4455000"/>
          </a:xfrm>
        </p:grpSpPr>
        <p:pic>
          <p:nvPicPr>
            <p:cNvPr id="1968" name="" descr=""/>
            <p:cNvPicPr/>
            <p:nvPr/>
          </p:nvPicPr>
          <p:blipFill>
            <a:blip r:embed="rId1"/>
            <a:stretch/>
          </p:blipFill>
          <p:spPr>
            <a:xfrm>
              <a:off x="3490920" y="2673360"/>
              <a:ext cx="319716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9" name=""/>
            <p:cNvSpPr/>
            <p:nvPr/>
          </p:nvSpPr>
          <p:spPr>
            <a:xfrm>
              <a:off x="6486480" y="1996920"/>
              <a:ext cx="1057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ffraction pat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624640" y="2274480"/>
              <a:ext cx="88092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90920" y="2636640"/>
              <a:ext cx="1427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tographic fi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29120" y="2787480"/>
              <a:ext cx="58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14600" y="2887560"/>
              <a:ext cx="132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ffracted X-r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73520" y="3040200"/>
              <a:ext cx="58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957400" y="3100320"/>
              <a:ext cx="903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094280" y="3098880"/>
              <a:ext cx="647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b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63360" y="3767040"/>
              <a:ext cx="703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908600" y="3503520"/>
              <a:ext cx="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185080" y="379872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ic a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141600" y="379872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83320" y="4032360"/>
              <a:ext cx="29376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6329160" y="4032360"/>
              <a:ext cx="176040" cy="82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092760" y="6176880"/>
              <a:ext cx="200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-ray diffraction pat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87880" y="6175440"/>
              <a:ext cx="175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D comput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1368000" y="61844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5.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D81-840C-4A27-BAD3-5D78A2DC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5.5: Nucleic acids store and transmit heredit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unit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e amino acid sequence of polypep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de of 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3A9D-2994-4C5B-901C-D29D4BD1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oles of Nucleic Ac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types of nucleic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nucleic a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11D-5546-466B-869E-16154582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ynthesis and Breakdown of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mers form larger molecules by condensation reactions called dehydration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1800" y="2935440"/>
            <a:ext cx="6684840" cy="2718720"/>
            <a:chOff x="991800" y="2935440"/>
            <a:chExt cx="6684840" cy="2718720"/>
          </a:xfrm>
        </p:grpSpPr>
        <p:grpSp>
          <p:nvGrpSpPr>
            <p:cNvPr id="190" name=""/>
            <p:cNvGrpSpPr/>
            <p:nvPr/>
          </p:nvGrpSpPr>
          <p:grpSpPr>
            <a:xfrm>
              <a:off x="2315880" y="2935440"/>
              <a:ext cx="5360760" cy="2702880"/>
              <a:chOff x="2315880" y="2935440"/>
              <a:chExt cx="5360760" cy="270288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74520" y="2935440"/>
                <a:ext cx="3809520" cy="240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316240" y="5302440"/>
                <a:ext cx="536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a) Dehydration reaction in the synthesis of a poly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31720" y="3000600"/>
                <a:ext cx="488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48760" y="300060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39120" y="29912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82080" y="30164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91560" y="30038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39240" y="302904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09520" y="4713480"/>
                <a:ext cx="488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61600" y="47134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55000" y="468648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02640" y="46994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37680" y="469944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60120" y="4705560"/>
                <a:ext cx="29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66120" y="30290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65920" y="4070520"/>
                <a:ext cx="4622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89080" y="3435840"/>
                <a:ext cx="1448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hort poly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13680" y="3416760"/>
                <a:ext cx="1888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nlinked mon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20760" y="5061240"/>
                <a:ext cx="159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onger poly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15880" y="3883680"/>
                <a:ext cx="2893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ehydration removes a wat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olecule, forming a new b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991800" y="5318280"/>
              <a:ext cx="128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5.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E21-BC49-4FAB-BC32-97E89C73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information for the synthesis of specific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A2EA-4231-4423-AA19-79500CBB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s RNA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s protein synthesis through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1950480" y="1944720"/>
            <a:ext cx="5796000" cy="4443840"/>
            <a:chOff x="1950480" y="1944720"/>
            <a:chExt cx="5796000" cy="4443840"/>
          </a:xfrm>
        </p:grpSpPr>
        <p:grpSp>
          <p:nvGrpSpPr>
            <p:cNvPr id="1999" name=""/>
            <p:cNvGrpSpPr/>
            <p:nvPr/>
          </p:nvGrpSpPr>
          <p:grpSpPr>
            <a:xfrm>
              <a:off x="2933640" y="1944720"/>
              <a:ext cx="4812840" cy="4420080"/>
              <a:chOff x="2933640" y="1944720"/>
              <a:chExt cx="4812840" cy="4420080"/>
            </a:xfrm>
          </p:grpSpPr>
          <p:pic>
            <p:nvPicPr>
              <p:cNvPr id="20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80480" y="1944720"/>
                <a:ext cx="4036680" cy="44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1" name=""/>
              <p:cNvSpPr/>
              <p:nvPr/>
            </p:nvSpPr>
            <p:spPr>
              <a:xfrm>
                <a:off x="2933640" y="2611080"/>
                <a:ext cx="154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33640" y="4463640"/>
                <a:ext cx="154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944800" y="5279760"/>
                <a:ext cx="1541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967120" y="2643120"/>
                <a:ext cx="21895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ynthesis of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     mRNA in the nucle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179520" y="4488480"/>
                <a:ext cx="208728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vement of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RNA into cytoplasm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ia nuclear po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46920" y="5307840"/>
                <a:ext cx="154044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f protei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46920" y="359388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92120" y="379476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552560" y="198576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5020920" y="2204280"/>
                <a:ext cx="200880" cy="20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289120" y="426420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557320" y="4482720"/>
                <a:ext cx="267480" cy="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58200" y="460044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iboso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5892120" y="4750560"/>
                <a:ext cx="267840" cy="20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204600" y="5846040"/>
                <a:ext cx="15418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mino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i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166800" y="5896800"/>
                <a:ext cx="53568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025680" y="6037560"/>
                <a:ext cx="699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47800" y="600372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lypepti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4693320" y="6023520"/>
                <a:ext cx="267840" cy="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686120" y="2788560"/>
                <a:ext cx="1540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188680" y="3108600"/>
                <a:ext cx="133560" cy="133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2" name=""/>
            <p:cNvSpPr/>
            <p:nvPr/>
          </p:nvSpPr>
          <p:spPr>
            <a:xfrm>
              <a:off x="1950480" y="60829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678-9946-424E-B713-96B57C8F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tructure of Nucleic Acid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 as polymers called poly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631680" y="6070680"/>
            <a:ext cx="249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Polynucleotid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 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2867400" y="1981080"/>
            <a:ext cx="3738240" cy="4509000"/>
            <a:chOff x="2867400" y="1981080"/>
            <a:chExt cx="3738240" cy="4509000"/>
          </a:xfrm>
        </p:grpSpPr>
        <p:pic>
          <p:nvPicPr>
            <p:cNvPr id="2028" name="" descr=""/>
            <p:cNvPicPr/>
            <p:nvPr/>
          </p:nvPicPr>
          <p:blipFill>
            <a:blip r:embed="rId1"/>
            <a:stretch/>
          </p:blipFill>
          <p:spPr>
            <a:xfrm>
              <a:off x="4594320" y="1981080"/>
              <a:ext cx="201132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9" name=""/>
            <p:cNvSpPr/>
            <p:nvPr/>
          </p:nvSpPr>
          <p:spPr>
            <a:xfrm>
              <a:off x="4366080" y="54784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730040" y="198108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86680" y="248112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412160" y="2849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408920" y="510552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10920" y="571500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568400" y="58212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867400" y="6184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919400" y="51782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954320" y="2544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954320" y="3390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954320" y="4236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9664-0CF7-4CDC-B594-5457DA9E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olynucleot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monomers called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2116440" y="2297160"/>
            <a:ext cx="5209920" cy="3621600"/>
            <a:chOff x="2116440" y="2297160"/>
            <a:chExt cx="5209920" cy="3621600"/>
          </a:xfrm>
        </p:grpSpPr>
        <p:pic>
          <p:nvPicPr>
            <p:cNvPr id="2045" name="" descr=""/>
            <p:cNvPicPr/>
            <p:nvPr/>
          </p:nvPicPr>
          <p:blipFill>
            <a:blip r:embed="rId1"/>
            <a:stretch/>
          </p:blipFill>
          <p:spPr>
            <a:xfrm>
              <a:off x="3635280" y="2297160"/>
              <a:ext cx="369108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6" name=""/>
            <p:cNvSpPr/>
            <p:nvPr/>
          </p:nvSpPr>
          <p:spPr>
            <a:xfrm rot="5400000">
              <a:off x="5699160" y="2162160"/>
              <a:ext cx="209520" cy="136224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35280 h 1362240"/>
                <a:gd name="textAreaBottom" fmla="*/ 132696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496840" y="2908440"/>
              <a:ext cx="1009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itrogen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00280" y="2476440"/>
              <a:ext cx="941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s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181040" y="36781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478040" y="40449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149360" y="4407120"/>
              <a:ext cx="332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2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804840" y="4038840"/>
              <a:ext cx="332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04440" y="4052880"/>
              <a:ext cx="287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89760" y="403236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016960" y="37036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42600" y="480996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’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896280" y="4714920"/>
              <a:ext cx="918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488200" y="4940280"/>
              <a:ext cx="747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nt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17960" y="5618160"/>
              <a:ext cx="2116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Nucleot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116440" y="56131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78360" y="41450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8F94-AC99-4566-AC4F-8D32DBD4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ucleotide Mono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cleotide mono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de up of nucleosides and phosph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015800" y="6308640"/>
            <a:ext cx="183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) Nucleoside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738880" y="6256080"/>
            <a:ext cx="117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5.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4083480" y="1996920"/>
            <a:ext cx="2732760" cy="4327560"/>
            <a:chOff x="4083480" y="1996920"/>
            <a:chExt cx="2732760" cy="4327560"/>
          </a:xfrm>
        </p:grpSpPr>
        <p:sp>
          <p:nvSpPr>
            <p:cNvPr id="2068" name=""/>
            <p:cNvSpPr/>
            <p:nvPr/>
          </p:nvSpPr>
          <p:spPr>
            <a:xfrm>
              <a:off x="6345360" y="261936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38880" y="27716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8440" y="3181320"/>
              <a:ext cx="1027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acil (in 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86760" y="6024600"/>
              <a:ext cx="114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bose (in 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901760" y="1996920"/>
              <a:ext cx="1325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trogenous bases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yrimid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3" name="" descr=""/>
            <p:cNvPicPr/>
            <p:nvPr/>
          </p:nvPicPr>
          <p:blipFill>
            <a:blip r:embed="rId1"/>
            <a:stretch/>
          </p:blipFill>
          <p:spPr>
            <a:xfrm>
              <a:off x="4114800" y="2057400"/>
              <a:ext cx="26002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4" name=""/>
            <p:cNvSpPr/>
            <p:nvPr/>
          </p:nvSpPr>
          <p:spPr>
            <a:xfrm>
              <a:off x="4459320" y="2522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09920" y="2598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451400" y="2854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290840" y="2776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139640" y="29005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65800" y="30132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407840" y="231840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635360" y="26082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614840" y="27716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888800" y="287820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067360" y="2771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195880" y="2868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11720" y="30290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57880" y="278136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951440" y="260208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16400" y="2513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201640" y="23288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378400" y="2602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512680" y="250272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159600" y="2874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918400" y="26082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180120" y="24908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006960" y="27766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159600" y="2995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42800" y="287496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179400" y="23288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239720" y="3181320"/>
              <a:ext cx="677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s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775040" y="3191040"/>
              <a:ext cx="1189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ymine (in D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587840" y="4348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370400" y="42181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568760" y="40356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756320" y="4084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756320" y="43466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90960" y="44211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890960" y="4017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060880" y="4302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079960" y="41162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884120" y="382644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844600" y="3833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510160" y="40273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94160" y="420048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514840" y="43578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514840" y="449280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584600" y="4483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76840" y="4084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842080" y="4011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30920" y="4402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21360" y="41054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024600" y="42958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58880" y="4364640"/>
              <a:ext cx="408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444560" y="4630680"/>
              <a:ext cx="646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e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23840" y="4630680"/>
              <a:ext cx="662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a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132160" y="3630600"/>
              <a:ext cx="6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946120" y="534672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08000" y="5288760"/>
              <a:ext cx="599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02400" y="568944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837400" y="5511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54840" y="5505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43400" y="527364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189840" y="56815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34640" y="5354640"/>
              <a:ext cx="284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200120" y="5299920"/>
              <a:ext cx="599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C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92720" y="56944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27720" y="551808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745160" y="5511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835160" y="527832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879800" y="56865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795200" y="5068800"/>
              <a:ext cx="1126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ntose sug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083480" y="6018120"/>
              <a:ext cx="1486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oxyribose (in D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478840" y="6019920"/>
              <a:ext cx="114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bose (in 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28920" y="586116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783040" y="586728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345360" y="25988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48600" y="279576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806800" y="3199680"/>
              <a:ext cx="95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acil (in RN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309560" y="556560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08560" y="5192280"/>
              <a:ext cx="250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 baseline="30000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587120" y="578628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474800" y="5867280"/>
              <a:ext cx="37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740120" y="58593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706280" y="578916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968360" y="556236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732640" y="5213160"/>
              <a:ext cx="250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 baseline="30000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14200" y="557676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911200" y="579420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31800" y="579744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300000" y="5552640"/>
              <a:ext cx="253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’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242-93CD-4D53-A9EA-3CB12B05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14800" y="3581280"/>
            <a:ext cx="25909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33720" y="2514600"/>
            <a:ext cx="190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124080" y="2666880"/>
            <a:ext cx="1143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ucleotide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cleotide poly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ade up of nucleotides linked by the–OH group on the 3´ carbon of one nucleotide and the phosphate on the 5´ carbon on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55E8-FC75-4653-AFA5-6FC59D73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equence of bases along a nucleotide poly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nique for each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1232-2018-4E65-A127-EE91A24BF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DNA Double Helix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ular DNA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wo polynucleotides that spiral around an imaginary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B73A-242E-441B-9918-3270FF85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double hel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two antiparallel nucleotid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1444320" y="2058840"/>
            <a:ext cx="6861600" cy="4431240"/>
            <a:chOff x="1444320" y="2058840"/>
            <a:chExt cx="6861600" cy="4431240"/>
          </a:xfrm>
        </p:grpSpPr>
        <p:grpSp>
          <p:nvGrpSpPr>
            <p:cNvPr id="2177" name=""/>
            <p:cNvGrpSpPr/>
            <p:nvPr/>
          </p:nvGrpSpPr>
          <p:grpSpPr>
            <a:xfrm>
              <a:off x="2590920" y="2058840"/>
              <a:ext cx="5715000" cy="4405680"/>
              <a:chOff x="2590920" y="2058840"/>
              <a:chExt cx="5715000" cy="4405680"/>
            </a:xfrm>
          </p:grpSpPr>
          <p:pic>
            <p:nvPicPr>
              <p:cNvPr id="2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5240" y="2309760"/>
                <a:ext cx="4133880" cy="40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9" name=""/>
              <p:cNvSpPr/>
              <p:nvPr/>
            </p:nvSpPr>
            <p:spPr>
              <a:xfrm>
                <a:off x="5500800" y="2058840"/>
                <a:ext cx="1339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29440" y="2396880"/>
                <a:ext cx="1542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gar-phospha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5842080" y="2561760"/>
                <a:ext cx="406440" cy="29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432480" y="2873160"/>
                <a:ext cx="18734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se pair (joined by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gen bonding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026040" y="3114360"/>
                <a:ext cx="465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269040" y="3277800"/>
                <a:ext cx="1338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ld stra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083280" y="3416040"/>
                <a:ext cx="407880" cy="23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432480" y="3636720"/>
                <a:ext cx="13399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cleotid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bout to b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ded to a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w str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5443560" y="3823920"/>
                <a:ext cx="1047600" cy="58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5792760" y="3415680"/>
                <a:ext cx="698400" cy="63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695840" y="4317840"/>
                <a:ext cx="1339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257880" y="6187680"/>
                <a:ext cx="1339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590920" y="5724360"/>
                <a:ext cx="1339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998800" y="6189480"/>
                <a:ext cx="1338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095800" y="5655960"/>
                <a:ext cx="1336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w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184720" y="4857480"/>
                <a:ext cx="9072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>
                <a:off x="5297400" y="4890960"/>
                <a:ext cx="408240" cy="81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43560" y="4219920"/>
                <a:ext cx="601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45160" y="4851360"/>
                <a:ext cx="1339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687920" y="2066760"/>
                <a:ext cx="1338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’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144432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5.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60F-CC27-4A8D-9F87-F925462DE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itrogenous bases in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hydrogen bonds in a complementary fashion (A with T only, and C with G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3ED-EFA7-4529-8D91-D4F969C7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mers can disassemble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55200" y="2514600"/>
            <a:ext cx="5760720" cy="3141360"/>
            <a:chOff x="1555200" y="2514600"/>
            <a:chExt cx="5760720" cy="314136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235320" y="2514600"/>
              <a:ext cx="388620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809080" y="5275440"/>
              <a:ext cx="279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b) Hydrolysis of a poly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8960" y="487404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89120" y="48564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32080" y="4869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9720" y="48819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6880" y="4906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3520" y="27291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67040" y="274176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61880" y="2723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09880" y="27356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1960" y="2723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2560" y="27291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66400" y="3726000"/>
              <a:ext cx="462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84720" y="48722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5080" y="49068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56760" y="3564720"/>
              <a:ext cx="2567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drolysis adds a wa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lecule, breaking a b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5200" y="5320080"/>
              <a:ext cx="128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5.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FEB-6AE0-42CE-A68C-E8608AC3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NA and Proteins as Tape Measures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ecular comparis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biologists sort out the evolutionary connections among spe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C52-3AE4-427C-964B-168CA145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heme of Emergent Properties in the Chemistry of Life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br>
              <a:rPr sz="3000"/>
            </a:b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levels of 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n the emergence of new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key to the chemistr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D36C-801D-4E96-BE0E-1C4F3FDE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Diversity of Polym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class of poly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rmed from a specific set of mon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30040" y="17672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60240" y="178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68480" y="1776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5000" y="1825200"/>
            <a:ext cx="355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5200" y="18252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511B-2E70-4E5F-B649-7489B7F3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organisms share the same limited number of monomer types, each organism is unique based on the arrangement of monomers into poly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031-3A8B-4E59-8226-144FEE54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dcterms:modified xsi:type="dcterms:W3CDTF">2006-10-03T14:05:02Z</dcterms:modified>
  <cp:revision>1030</cp:revision>
  <dc:subject/>
  <dc:title>video slide</dc:title>
</cp:coreProperties>
</file>